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F73-7206-46C8-874E-A408C325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0C7-238F-4A4B-B624-5B95BE3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710-2A27-4073-ADC2-42A6B796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4EC-FE31-41A6-92C9-25FF3CC6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4A7-BF7C-4466-B266-9CAD306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5AD-EEBC-4DD3-B123-B873104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717-42C9-49C9-92E1-4FDA9E8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2A0-0AEA-4592-AB1C-406A7B68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0D6-DA2E-4CDE-A985-DD20533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63F-7AC0-43AD-A465-2FFF87C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104-38A2-45E3-A5D6-849A7CA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DE5-0D25-4389-95A0-6B88C70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A24-6D7A-4A05-8CCC-ABB26B9853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131920"/>
            <a:ext cx="8064720" cy="2160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</a:t>
            </a:r>
            <a:r>
              <a:rPr b="0" lang="ko-KR" sz="3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보금자리 주택의 추진 현황과 전망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현재의 주거 격차 완화</a:t>
            </a: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미래의 주거 안전망 구축을 위하여 </a:t>
            </a: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ff"/>
                </a:solidFill>
                <a:latin typeface="HY헤드라인M"/>
                <a:ea typeface="HY헤드라인M"/>
              </a:rPr>
              <a:t>       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토지주택연구원 진미윤 수석연구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F38-7A5F-4686-8AE9-47BF79C05D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1413000"/>
            <a:ext cx="73454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조기 공급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실거주 요건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특별 및 우선 공급 제도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전 예약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행 선분양 제도보다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이상 조기 공급 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지 지구계획 승인을 완료한 단지를 묶어서 개략 설계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규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양가 등을 일괄 제시하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집 마련 조기 공급 효과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복수의 단지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비교함으로써 수요자 선호 반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본 청약물량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0-80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예비당첨자는 거래 질서 확립을 위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본 청약시 예약된 지위의 양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양수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 거주 요건 강화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매 제한 기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-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GB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 보금자리 주택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양가가 주변 시세의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0%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미만인 경우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34936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494172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854-9295-49AC-8246-3FC82B8FCE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84280"/>
            <a:ext cx="7345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조기 공급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실거주 요건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특별 및 우선 공급 제도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공공분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특별 공급 및 우선 공급 대상자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특별공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호수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관추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가유공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애인 등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15%, 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녀 특별공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노부모 부양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%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혼부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%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생애최초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로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반공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호수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지구내 민간분양은 특별공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%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반 공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42100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494172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579-99FC-4EAD-81D6-37D7CA874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1484280"/>
            <a:ext cx="7777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재정 지원 및 재원 분담 구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66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9-2018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간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 주택건설 지원을 위해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간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5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정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금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3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소요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연간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원 사업규모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정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2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00360" y="3716280"/>
          <a:ext cx="6011280" cy="2022480"/>
        </p:xfrm>
        <a:graphic>
          <a:graphicData uri="http://schemas.openxmlformats.org/drawingml/2006/table">
            <a:tbl>
              <a:tblPr/>
              <a:tblGrid>
                <a:gridCol w="2107080"/>
                <a:gridCol w="1253160"/>
                <a:gridCol w="1194840"/>
                <a:gridCol w="1456200"/>
              </a:tblGrid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구 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연간 재원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억원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연간 공급 기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재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기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보금자리 주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50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2,358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억원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93,419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억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5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영구임대주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(10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,2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국민임대주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(40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7,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6,4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공공임대주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(30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1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공공분양주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(70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66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6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7</a:t>
                      </a: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만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4CD-DE3F-42A4-B10B-DDE1820E69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1484280"/>
            <a:ext cx="7777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재정 지원 및 재원 분담 구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66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정 지원 기준 및 재원 분담 구조를 보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부 재정 지원 비율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높을수록 입주자 부담은 낮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66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담가능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affordability)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문제와 연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18697" t="37200" r="15742" b="20466"/>
          <a:stretch/>
        </p:blipFill>
        <p:spPr>
          <a:xfrm>
            <a:off x="1476360" y="3284640"/>
            <a:ext cx="684072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236-841B-4A95-984A-171698576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15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개발 규모와 주택공급 호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 지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7,99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㎡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1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억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,514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구별 개발규모는 서울 서초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광명시흥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26.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 규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울세곡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와 내곡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흥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남양주 진건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5.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남미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65.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남 강일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1.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남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16.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 규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주택건설호수는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.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중 보금자리 주택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6.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71.5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문별 건설 현황을 보면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범지구는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공공부문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73.6%,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민간부문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26.4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지구는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공공부문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72.2%,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민간부문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27.8%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898560" y="234792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898560" y="436392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0D7-1074-4268-A242-DC040E970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27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2"/>
          <a:srcRect l="15742" t="7683" r="16926" b="14564"/>
          <a:stretch/>
        </p:blipFill>
        <p:spPr>
          <a:xfrm>
            <a:off x="1332000" y="1417680"/>
            <a:ext cx="6553080" cy="45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0DF-02BD-45BC-8A38-171F23DB2E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37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rcRect l="17514" t="30319" r="18697" b="28341"/>
          <a:stretch/>
        </p:blipFill>
        <p:spPr>
          <a:xfrm>
            <a:off x="1403280" y="3141720"/>
            <a:ext cx="6337440" cy="2463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개발 규모와 주택공급 호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유형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범지구가 </a:t>
            </a:r>
            <a:r>
              <a:rPr b="0" lang="zh-CN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공공분양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50.5%, </a:t>
            </a:r>
            <a:r>
              <a:rPr b="0" lang="zh-CN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임대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49.5%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보금자리 지구는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48% </a:t>
            </a:r>
            <a:r>
              <a:rPr b="0" lang="zh-CN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대비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52%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지구는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47.3% </a:t>
            </a:r>
            <a:r>
              <a:rPr b="0" lang="zh-CN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대비 </a:t>
            </a:r>
            <a:r>
              <a:rPr b="0" lang="en-US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52.7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E0F-E3B5-4E8D-8EAC-76D7CC1D8F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48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예상 분양가 및 임대료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시범지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양가 상한금액 이내에서 주변 시세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울 강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초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– 70%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양 원흥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남 미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준으로 결정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지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울 강남권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 지구는 주변 시세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6-59%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1,14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1,34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외 지역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5-80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75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99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임대주택 임대조건은 주변 전세가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2-79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납 임대주택 임대조건은 주변 전세가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6-79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898560" y="234792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898560" y="436392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6341" t="27366" r="17514" b="59812"/>
          <a:stretch/>
        </p:blipFill>
        <p:spPr>
          <a:xfrm>
            <a:off x="1258920" y="3154320"/>
            <a:ext cx="6697800" cy="77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C43-AE8F-4754-BFCB-AD4E28B051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61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/>
          <a:srcRect l="16341" t="41463" r="17514" b="22439"/>
          <a:stretch/>
        </p:blipFill>
        <p:spPr>
          <a:xfrm>
            <a:off x="1150920" y="2852640"/>
            <a:ext cx="6840720" cy="22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예상 분양가 및 임대료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지구 예상 분양가 및 임대료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898560" y="234792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2F8-743F-4B51-B8E9-CDCB8F408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73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108000" y="2664000"/>
          <a:ext cx="4486320" cy="31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64000"/>
                    <a:ext cx="448632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572000" y="2637000"/>
          <a:ext cx="4572000" cy="316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637000"/>
                    <a:ext cx="45720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예상 분양가 및 임대료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 분양가와 기존 매매가 추이 비교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동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1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234792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2916360" y="5157720"/>
            <a:ext cx="180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3</a:t>
            </a:r>
            <a:r>
              <a:rPr b="1" lang="zh-CN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㎡ 신규 분양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5157720"/>
            <a:ext cx="151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3</a:t>
            </a:r>
            <a:r>
              <a:rPr b="1" lang="zh-CN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㎡ 기존 매매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19B-5F40-426D-A566-A09F8BAAE1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48428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buClr>
                <a:srgbClr val="003399"/>
              </a:buClr>
              <a:buSzPct val="115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3399"/>
              </a:buClr>
              <a:buSzPct val="115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3399"/>
              </a:buClr>
              <a:buSzPct val="115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추진 현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3399"/>
              </a:buClr>
              <a:buSzPct val="115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3399"/>
              </a:buClr>
              <a:buSzPct val="115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요 내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197000"/>
            <a:ext cx="23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118-8B10-4765-8907-7A3C2BEB00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290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rcRect l="17723" t="31245" r="23218" b="8486"/>
          <a:stretch/>
        </p:blipFill>
        <p:spPr>
          <a:xfrm>
            <a:off x="1690560" y="2565360"/>
            <a:ext cx="5402520" cy="3382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사전예약 현황 및 청약경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시범지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분양분량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0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전예약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청약경쟁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1: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898560" y="227664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BFC-9B77-4596-8341-79EF98E547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00000" y="476280"/>
            <a:ext cx="4896000" cy="720720"/>
            <a:chOff x="900000" y="476280"/>
            <a:chExt cx="4896000" cy="720720"/>
          </a:xfrm>
        </p:grpSpPr>
        <p:sp>
          <p:nvSpPr>
            <p:cNvPr id="302" name=""/>
            <p:cNvSpPr/>
            <p:nvPr/>
          </p:nvSpPr>
          <p:spPr>
            <a:xfrm>
              <a:off x="900000" y="476280"/>
              <a:ext cx="439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3. </a:t>
              </a: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의 추진 현황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0000" y="1197000"/>
              <a:ext cx="489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사전예약 현황 및 청약경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범지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자녀 특별공급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.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청약률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자녀 및 노부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우선공급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노부모 부양 우선공급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생애최초 특별공급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.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혼부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9.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반공급은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 보금자리 지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분양 이외에도 공공임대주택도 사전 예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18,51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양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4,49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임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,014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분양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96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청약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임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납 임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.77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청약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227664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407664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1D2-DDBC-41C1-BAC9-10F161F2CB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197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물량과 속도 조절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향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009-2018) 15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연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는 주택종합계획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국 주택수요 연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0-4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5-37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분양가의 민영주택에 비하여 그동안 공공주택 공급은 미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주택은 주로 국민임대주택에 특화되어 공급된 특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실제 분양가 상한제의 실효성이 크게 훼손한 상황에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   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저렴한 공공분양 주택의 공급 확대는 시의 적절함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시장 여건에 따라 공공과 민간은 상호 기능 보완 역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지난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21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년간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(89~09)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공공과 민간의 주택시장 특징은 상호 보완기제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역할을 하였고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주택시장 침체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33cc"/>
                </a:solidFill>
                <a:latin typeface="HY헤드라인M"/>
                <a:ea typeface="HY헤드라인M"/>
              </a:rPr>
              <a:t>하향기 때는 민간보다 공공의 역할이 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898560" y="220500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898560" y="486900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1B3-6D46-49B1-B89D-6415E65D2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1197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참여 주체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민간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공공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간의 관계 정립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경합이 아닌 보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27" name="Object 8"/>
          <p:cNvGraphicFramePr/>
          <p:nvPr/>
        </p:nvGraphicFramePr>
        <p:xfrm>
          <a:off x="1549440" y="2031840"/>
          <a:ext cx="6551640" cy="398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9440" y="2031840"/>
                    <a:ext cx="65516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9"/>
          <p:cNvSpPr/>
          <p:nvPr/>
        </p:nvSpPr>
        <p:spPr>
          <a:xfrm>
            <a:off x="2484360" y="6093000"/>
            <a:ext cx="5327640" cy="1828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가격 상승률과 민간부문 및 공공부문 주택건설 실적 비교 추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0C8-245B-476C-9979-A99152363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1197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1557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참여 주체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민간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공공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간의 관계 정립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경합이 아닌 보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난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간 민간부문의 주택시장 참여 비율은 평균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6.5%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임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’08-’09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은 연간 주택건설 감소로 민간 물량도 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234936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15158" t="31294" r="16926" b="17512"/>
          <a:stretch/>
        </p:blipFill>
        <p:spPr>
          <a:xfrm>
            <a:off x="1476360" y="3084480"/>
            <a:ext cx="6335640" cy="286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4DA-2CAA-4D06-A3B0-9D18467675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197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정책 소요는 충분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수요는 부담능력에 따라 영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정책대상 가구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가구 ∩ 무주택가구 ∩ 소득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위 이하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향후 소득 증가 요인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 가구 증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멸실을 감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책대상 계층의 입주의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담능력을 감안시 보금자리 주택수요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국 연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9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 예상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해양부 연구용역 진행 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재 정책소요 가구 약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0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 가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중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 입주능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갖추었다고 보더라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의 수요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만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재 보다 부담능력이 악화될 경우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 입주계층이 크게 위축될 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있다는 점에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담가능한 수준의 주택 공급이 수요 충족의 선제 요건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898560" y="2349360"/>
            <a:ext cx="14436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494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1A-21DA-488C-B84D-5A81BAF91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안 과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1197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044720" y="134136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좋은 도시 만들기를 위한 노력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남은 전체적으로 보금자리 지구 조성이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16.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 규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광명시흥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26.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흥 기존 시가지내에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남양주의 경우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평규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들 도시의 도시 경쟁력은 보금자리 지구의 매력도와 연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좋은 도시 만들기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 도시와의 연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변 도시와의 연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양한 복합 시설들이 어우러진 살고 싶은 미래 도시로서의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갖출 수 있도록 해야 할 것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상 및 주민 지원 대책에서도 기존의 공영택지개발 방식보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진화된 선 주민 대책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순환 개발 등의 형태를 취해야 할 것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898560" y="227664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900000" y="522936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9AA-F647-4C5C-B947-ACDCEA9A4E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148428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주택 공급을 통한 ‘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safety net’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의 한계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급자 보조 정책만으로는 구입 능력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최초 부담 및 유지능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갖추지 못한 실수요 계층을 지원하는데는 여전히 한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요자 보조 정책의 중대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점유 형태간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Balance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중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= 60.3 = 39.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가 중 공공임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간 전월세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= 10 : 9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(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장기공공임대주택 재고 비중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: 4.2% (2009))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장기 목표로 점진적으로 공공임대주택 재고를 확보할 수 있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때문에 형평적 지원을 위해 주거빈곤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절대적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상대적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시급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계층에게 주택바우처와 같은 임대료 보조 정책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2349360"/>
            <a:ext cx="144720" cy="14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35719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988-1B6B-40E5-82F6-8D723E7E08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자산 형성의 기반 조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ome ownership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가들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미국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국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남유럽 국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싱가포르 등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가 소유를 사적 사회 안전망으로 활용하는 전략 구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주택자산에 기반한 복지 정책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cc0000"/>
                </a:solidFill>
                <a:latin typeface="휴먼모음T"/>
                <a:ea typeface="휴먼모음T"/>
              </a:rPr>
              <a:t>housing-based welfare policies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국 약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0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 가구 이상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민등록 세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90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세대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9%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아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무주택 가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중 입주의사와 부담능력을 갖춘 자들이 보금자리 주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요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-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공공분양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: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중산층 부흥 정책과 연계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,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주택 자산의 민주화를 통한 사회 안정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 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-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공공임대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: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지나치게 낮은 임대료 수준은 오히려 빈곤층의 사회 참여를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                   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저해 </a:t>
            </a:r>
            <a:r>
              <a:rPr b="0" lang="ko-KR" sz="17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 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자산 형성 기틀 마련하고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work disincentive 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방지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                  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빈곤의 섬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</a:t>
            </a:r>
            <a:r>
              <a:rPr b="0" lang="ko-KR" sz="17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세대 이전 등을 예방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227664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826920" y="35719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667-FEB2-4638-BA23-4E93C9BB8A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주택 유형간 주택 필터링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housing filtering)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과 순환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 주택공급 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기존 주택재고 유형간 필터링 원활화로 전반적인 주거수준 향상 기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5" name="" descr="세부 정보 보기"/>
          <p:cNvPicPr/>
          <p:nvPr/>
        </p:nvPicPr>
        <p:blipFill>
          <a:blip r:embed="rId2"/>
          <a:stretch/>
        </p:blipFill>
        <p:spPr>
          <a:xfrm>
            <a:off x="2843280" y="4365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세부 정보 보기"/>
          <p:cNvPicPr/>
          <p:nvPr/>
        </p:nvPicPr>
        <p:blipFill>
          <a:blip r:embed="rId3"/>
          <a:stretch/>
        </p:blipFill>
        <p:spPr>
          <a:xfrm>
            <a:off x="4643280" y="350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세부 정보 보기"/>
          <p:cNvPicPr/>
          <p:nvPr/>
        </p:nvPicPr>
        <p:blipFill>
          <a:blip r:embed="rId4"/>
          <a:stretch/>
        </p:blipFill>
        <p:spPr>
          <a:xfrm>
            <a:off x="6659640" y="3068640"/>
            <a:ext cx="1152360" cy="9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708360" y="4076640"/>
            <a:ext cx="792360" cy="433440"/>
          </a:xfrm>
          <a:custGeom>
            <a:avLst/>
            <a:gdLst/>
            <a:ahLst/>
            <a:rect l="l" t="t" r="r" b="b"/>
            <a:pathLst>
              <a:path w="499" h="273">
                <a:moveTo>
                  <a:pt x="0" y="273"/>
                </a:moveTo>
                <a:cubicBezTo>
                  <a:pt x="117" y="182"/>
                  <a:pt x="234" y="91"/>
                  <a:pt x="317" y="46"/>
                </a:cubicBezTo>
                <a:cubicBezTo>
                  <a:pt x="400" y="1"/>
                  <a:pt x="449" y="0"/>
                  <a:pt x="4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3357720"/>
            <a:ext cx="792360" cy="433080"/>
          </a:xfrm>
          <a:custGeom>
            <a:avLst/>
            <a:gdLst/>
            <a:ahLst/>
            <a:rect l="l" t="t" r="r" b="b"/>
            <a:pathLst>
              <a:path w="499" h="273">
                <a:moveTo>
                  <a:pt x="0" y="273"/>
                </a:moveTo>
                <a:cubicBezTo>
                  <a:pt x="117" y="182"/>
                  <a:pt x="234" y="91"/>
                  <a:pt x="317" y="46"/>
                </a:cubicBezTo>
                <a:cubicBezTo>
                  <a:pt x="400" y="1"/>
                  <a:pt x="449" y="0"/>
                  <a:pt x="4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3860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 Rounded MT Bold"/>
                <a:ea typeface="휴먼모음T"/>
              </a:rPr>
              <a:t>Upgra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5364000" y="32115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 Rounded MT Bold"/>
                <a:ea typeface="휴먼모음T"/>
              </a:rPr>
              <a:t>Upgra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4797360"/>
            <a:ext cx="576360" cy="432000"/>
          </a:xfrm>
          <a:custGeom>
            <a:avLst/>
            <a:gdLst/>
            <a:ahLst/>
            <a:rect l="l" t="t" r="r" b="b"/>
            <a:pathLst>
              <a:path w="273" h="317">
                <a:moveTo>
                  <a:pt x="273" y="0"/>
                </a:moveTo>
                <a:cubicBezTo>
                  <a:pt x="250" y="87"/>
                  <a:pt x="228" y="174"/>
                  <a:pt x="182" y="227"/>
                </a:cubicBezTo>
                <a:cubicBezTo>
                  <a:pt x="136" y="280"/>
                  <a:pt x="68" y="298"/>
                  <a:pt x="0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2914560" y="4003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5013360"/>
            <a:ext cx="17272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Filtering dow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더 낮은 소득계층이 해당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주택을 점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2771640" y="5229360"/>
            <a:ext cx="576360" cy="431640"/>
          </a:xfrm>
          <a:custGeom>
            <a:avLst/>
            <a:gdLst/>
            <a:ahLst/>
            <a:rect l="l" t="t" r="r" b="b"/>
            <a:pathLst>
              <a:path w="273" h="317">
                <a:moveTo>
                  <a:pt x="273" y="0"/>
                </a:moveTo>
                <a:cubicBezTo>
                  <a:pt x="250" y="87"/>
                  <a:pt x="228" y="174"/>
                  <a:pt x="182" y="227"/>
                </a:cubicBezTo>
                <a:cubicBezTo>
                  <a:pt x="136" y="280"/>
                  <a:pt x="68" y="298"/>
                  <a:pt x="0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1116000" y="5373720"/>
            <a:ext cx="17272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Filtering dow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더 낮은 소득계층이 해당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 Rounded MT Bold"/>
                <a:ea typeface="휴먼모음T"/>
              </a:rPr>
              <a:t>주택을 점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4005360"/>
            <a:ext cx="576000" cy="431640"/>
          </a:xfrm>
          <a:custGeom>
            <a:avLst/>
            <a:gdLst/>
            <a:ahLst/>
            <a:rect l="l" t="t" r="r" b="b"/>
            <a:pathLst>
              <a:path w="273" h="317">
                <a:moveTo>
                  <a:pt x="273" y="0"/>
                </a:moveTo>
                <a:cubicBezTo>
                  <a:pt x="250" y="87"/>
                  <a:pt x="228" y="174"/>
                  <a:pt x="182" y="227"/>
                </a:cubicBezTo>
                <a:cubicBezTo>
                  <a:pt x="136" y="280"/>
                  <a:pt x="68" y="298"/>
                  <a:pt x="0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484360" y="501336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F7F-B51D-4F57-BE78-9FC38290F5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413000"/>
            <a:ext cx="7272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추진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시장의 근본적 안정을 위해 주택 수요에 대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량적 수급은 크게 개선되었으나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역별 시장 불균형 심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무주택 서민의 자가 보유 촉진을 위해 저렴한 주택공급 및 부담능력 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200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9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 가구의 무주택 서민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우선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도심내 공공임대주택 소요 가구 지원 및 사회적 통합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외곽이 아닌 도심내 빈곤층 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구임대 재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양한 공공임대주택 유형 도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197000"/>
            <a:ext cx="47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421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33577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43657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0C7-0BF4-41F9-94E3-2B9E5FA95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주택 유형간 주택 필터링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housing filtering)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과 순환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임대주택 유형간 단절된 구조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순환 통로 마련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영구임대주택 입주시에는 영구임대주택 신규 자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국민임대주택 입주시에는 국민임대주택 신규 자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 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특별 공급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0%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시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영구임대주택 입주자는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점 가점 부여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 10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년 임대주택도 임대 만기시 구매력 없으면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구입 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공공임대주택 유형간 연계적 사다리 정책이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내집 마련까지 가는 계단 형성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사다리 구조 중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   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주택 마련과 주거 기회에 대한 다양한 옵션제 필요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C78-6B3F-4F8F-8446-75DA7F24C9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전 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글로벌 주택정책의 키워드는 ‘부담능력’과 ‘주거 접근성’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체 가구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¼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하 가구가 전체 주택가격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¼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하에 해당하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재고수 </a:t>
            </a:r>
            <a:r>
              <a:rPr b="0" lang="ko-KR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부담가능한 주택재고의 확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시장의 참여 기회 제공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점진적 주거 상향 이동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집값 분할 구조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생애최초 주택구입자에 대한 금융 지원 </a:t>
            </a:r>
            <a:r>
              <a:rPr b="0" lang="ko-KR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주거접근성 제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G20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국가 위상에 맞는 글로벌 스탠다드로서의 보금자리 주택 육성 중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양한 공급 방식과 기법으로 저렴 공급에 역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바우처 등 수요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조 정책 병행 필요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협력적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참여적 정책으로 면모 강화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826920" y="450864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673-0AFE-4263-BF15-8569482F86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전 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난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-3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간 선진국들은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ousing Reform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방향을 시장 원리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강화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부 개입 최소화 원칙으로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규제 완화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민간 참여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수요자 보조 형태로의 정책 전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 개혁의 목표는 주택 시스템의 경제적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회적 효율성 개선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거수준 격차 해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가점유율 증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유럽 평균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5%, 90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초과 국가들도 많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양적 보급 확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보급률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천인당 주택수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가소유의 민주화 달성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비하여 상대적 주거비 부담 심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주택 담보 대출 부담 가중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주거비 지출 급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임대주택 신규 건설 축소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영화로 인한 취약층 주거 불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9999"/>
                </a:solidFill>
                <a:latin typeface="HY헤드라인M"/>
                <a:ea typeface="HY헤드라인M"/>
              </a:rPr>
              <a:t>이용가능한 주택은 늘었지만</a:t>
            </a:r>
            <a:r>
              <a:rPr b="0" lang="ko-KR" sz="1800" spc="-1" strike="noStrike">
                <a:solidFill>
                  <a:srgbClr val="009999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9999"/>
                </a:solidFill>
                <a:latin typeface="HY헤드라인M"/>
                <a:ea typeface="HY헤드라인M"/>
              </a:rPr>
              <a:t>부담가능한 주택은 현저히 부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826920" y="43657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0EB-5965-4802-9B6D-5CB3957DC4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전 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대 중후반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동안 복지 국가를 표방하고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후 신자유주의 노선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취해 왔던 많은 선진국들은 어포더블 하우징 공급을 위해 공급 정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새로운 비전들을 제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장 만능적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장 우월적 가치 주의에서 점차 시장의 복지화 전략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노선을 수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택은 사회보장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료 제도와 함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 사회 안전망 중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나라는 위상 재강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4EF-4D05-48B1-9841-CE09389BF3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900000" y="47628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현 방안과 전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1197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971640" y="1341360"/>
            <a:ext cx="75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전 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저렴 주택공급을 위해 민관 파트너쉽 필요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정부간 주거지원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협력체 형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친서민 주택정책이 되기 위해서는 주택의 사업주체뿐 아니라 지역사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관 파트너쉽을 통한 기업의 사회적 역할 기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지속적인 정책 홍보와 무주택 임차가구의 자발적 참여 유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현재의 주거 불안은 미래 불안이기도 하며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예방 정책과 자산 형성 정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지속적이고 일관된 정책 중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4148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4869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282-B2FB-4BAE-8ED6-D90ED73A22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413000"/>
            <a:ext cx="7272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추진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197000"/>
            <a:ext cx="47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17514" t="28341" r="23427" b="15539"/>
          <a:stretch/>
        </p:blipFill>
        <p:spPr>
          <a:xfrm>
            <a:off x="1187280" y="2090880"/>
            <a:ext cx="6769440" cy="385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5B2-2372-419A-9433-B4277E4222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-3636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9640" y="2990880"/>
            <a:ext cx="8444160" cy="3101760"/>
            <a:chOff x="539640" y="2990880"/>
            <a:chExt cx="8444160" cy="3101760"/>
          </a:xfrm>
        </p:grpSpPr>
        <p:sp>
          <p:nvSpPr>
            <p:cNvPr id="86" name=""/>
            <p:cNvSpPr/>
            <p:nvPr/>
          </p:nvSpPr>
          <p:spPr>
            <a:xfrm>
              <a:off x="539640" y="3454200"/>
              <a:ext cx="1344600" cy="55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25800" y="3211560"/>
              <a:ext cx="304560" cy="1441440"/>
            </a:xfrm>
            <a:custGeom>
              <a:avLst/>
              <a:gdLst/>
              <a:ahLst/>
              <a:rect l="l" t="t" r="r" b="b"/>
              <a:pathLst>
                <a:path w="160" h="1112">
                  <a:moveTo>
                    <a:pt x="152" y="0"/>
                  </a:moveTo>
                  <a:lnTo>
                    <a:pt x="0" y="0"/>
                  </a:lnTo>
                  <a:lnTo>
                    <a:pt x="0" y="1112"/>
                  </a:lnTo>
                  <a:lnTo>
                    <a:pt x="160" y="1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84240" y="3736800"/>
              <a:ext cx="2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09920" y="3211560"/>
              <a:ext cx="281160" cy="763560"/>
            </a:xfrm>
            <a:custGeom>
              <a:avLst/>
              <a:gdLst/>
              <a:ahLst/>
              <a:rect l="l" t="t" r="r" b="b"/>
              <a:pathLst>
                <a:path w="160" h="648">
                  <a:moveTo>
                    <a:pt x="144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160" y="6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89560" y="3736800"/>
              <a:ext cx="1861920" cy="509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공공건설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 임대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157280" y="3211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97560" y="3719520"/>
              <a:ext cx="25862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영구임대</a:t>
              </a:r>
              <a:r>
                <a:rPr b="0" lang="en-US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국민임대</a:t>
              </a:r>
              <a:r>
                <a:rPr b="0" lang="en-US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10</a:t>
              </a:r>
              <a:r>
                <a:rPr b="0" lang="zh-CN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년 임대</a:t>
              </a:r>
              <a:r>
                <a:rPr b="0" lang="en-US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분납임대</a:t>
              </a:r>
              <a:r>
                <a:rPr b="0" lang="en-US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1400" spc="-1" strike="noStrike">
                  <a:solidFill>
                    <a:srgbClr val="0033cc"/>
                  </a:solidFill>
                  <a:latin typeface="HY헤드라인M"/>
                  <a:ea typeface="HY헤드라인M"/>
                </a:rPr>
                <a:t>장기전세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33520" y="3048120"/>
              <a:ext cx="1824120" cy="452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건설 보금자리 주택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33520" y="4437000"/>
              <a:ext cx="1824120" cy="453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매입 보금자리 주택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7480" y="2990880"/>
              <a:ext cx="1861920" cy="509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공공건설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금자리 주택 분양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19560" y="4416480"/>
              <a:ext cx="325116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buClr>
                  <a:srgbClr val="00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맑은 고딕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국민주택기금융자금 미상환 임대주택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buClr>
                  <a:srgbClr val="0066ff"/>
                </a:buClr>
                <a:buFont typeface="HY헤드라인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부도 임대주택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buClr>
                  <a:srgbClr val="0066ff"/>
                </a:buClr>
                <a:buFont typeface="HY헤드라인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기존 주택 매입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buClr>
                  <a:srgbClr val="0066ff"/>
                </a:buClr>
                <a:buFont typeface="HY헤드라인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건설 중에 있는 주택매입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시행자 제안시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buClr>
                  <a:srgbClr val="0066ff"/>
                </a:buClr>
                <a:buFont typeface="HY헤드라인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임대주택의 인수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도시재정비촉진을 위한 특별법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및 도시및주거환경정비법 미인수분</a:t>
              </a:r>
              <a:r>
                <a:rPr b="0" lang="ko-KR" sz="1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34920" y="141300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보금자리 주택의 정의와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이란 공공이 재정 또는 국민주택기금을 지원받아 건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또는 매입하여 분양 또는 임대를 목적으로 공급하는 주택을 말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47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F9C-E798-405E-9680-6CD68C858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-3636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13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3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정책 목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소득계층간 정책 소외감이 없도록 소득수준에 맞도록 다양한 주택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급함으로써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민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 원하는 곳에 값싸고 저렴한 주택을 신속하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급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법적 근거 및 재정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‘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건설 등에 관한 특별법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분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민 자가보유 촉진을 위해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5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㎡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하의 중소형 저가 공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임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민임대주택 외 전세형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납형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임대 등 추가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구임대주택 공급 재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197000"/>
            <a:ext cx="47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3479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084-6ECB-4F9A-9F77-7F22A5665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9285" t="20180" r="19285" b="28341"/>
          <a:stretch/>
        </p:blipFill>
        <p:spPr>
          <a:xfrm>
            <a:off x="1511280" y="2852640"/>
            <a:ext cx="630072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34920" y="141300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정책 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도시내 근교 복합 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직주 근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시 연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임대주택 위주에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가보유 촉진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임대 다양화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입주자 부담능력을 감안하여 저렴 공급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보금자리 주택의 정책 목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197000"/>
            <a:ext cx="47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898560" y="2205000"/>
            <a:ext cx="1443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8E0-1247-47B5-AFDD-036116C9E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-3636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9285" t="33273" r="19285" b="14564"/>
          <a:stretch/>
        </p:blipFill>
        <p:spPr>
          <a:xfrm>
            <a:off x="1332000" y="2498760"/>
            <a:ext cx="6913440" cy="3522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1413000"/>
            <a:ext cx="7416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1)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총량 구조</a:t>
            </a:r>
            <a:r>
              <a:rPr b="1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1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물량 기준과 유형별 배분 기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공분양과 공공임대를 통합하여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만호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임대유형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건 다양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20500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F04-245D-4EA7-A14F-5BB70057E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39640" cy="2133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503280" cy="33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616572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토지주택연구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89080" y="6021360"/>
            <a:ext cx="867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936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도의 설계 구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197000"/>
            <a:ext cx="36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413000"/>
            <a:ext cx="77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2) </a:t>
            </a:r>
            <a:r>
              <a:rPr b="1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소득계층별 지원 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최빈층에게는 영구임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소득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위이하는 국민임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집 마련 전단계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납 임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세임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저렴한 내집 마련 지원을 위해서는 공공분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3720" y="2992320"/>
            <a:ext cx="8199360" cy="2957400"/>
            <a:chOff x="693720" y="2992320"/>
            <a:chExt cx="8199360" cy="2957400"/>
          </a:xfrm>
        </p:grpSpPr>
        <p:sp>
          <p:nvSpPr>
            <p:cNvPr id="144" name=""/>
            <p:cNvSpPr/>
            <p:nvPr/>
          </p:nvSpPr>
          <p:spPr>
            <a:xfrm>
              <a:off x="693720" y="3052440"/>
              <a:ext cx="81900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17760" y="3057480"/>
              <a:ext cx="819000" cy="3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6760" y="3057480"/>
              <a:ext cx="819360" cy="3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3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800" y="3062160"/>
              <a:ext cx="819000" cy="30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4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3057480"/>
              <a:ext cx="819000" cy="3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5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99160" y="3062160"/>
              <a:ext cx="819000" cy="30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6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8160" y="3062160"/>
              <a:ext cx="819000" cy="30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7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29240" y="3054240"/>
              <a:ext cx="82080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8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50040" y="3054240"/>
              <a:ext cx="81936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9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74080" y="3058920"/>
              <a:ext cx="819000" cy="31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소득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400" spc="-1" strike="noStrike">
                  <a:solidFill>
                    <a:srgbClr val="0000ff"/>
                  </a:solidFill>
                  <a:latin typeface="휴먼모음T"/>
                  <a:ea typeface="휴먼모음T"/>
                </a:rPr>
                <a:t>분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720" y="3568320"/>
              <a:ext cx="819000" cy="37008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휴먼모음T"/>
                </a:rPr>
                <a:t>영구임대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60" y="4016160"/>
              <a:ext cx="3270240" cy="365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휴먼모음T"/>
                </a:rPr>
                <a:t>국민 임대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1440" y="4489200"/>
              <a:ext cx="2444760" cy="363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  <a:ea typeface="휴먼모음T"/>
                </a:rPr>
                <a:t>분납 임대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휴먼모음T"/>
                </a:rPr>
                <a:t>, </a:t>
              </a:r>
              <a:r>
                <a:rPr b="1" lang="zh-CN" sz="1500" spc="-1" strike="noStrike">
                  <a:solidFill>
                    <a:srgbClr val="000000"/>
                  </a:solidFill>
                  <a:latin typeface="Arial"/>
                  <a:ea typeface="휴먼모음T"/>
                </a:rPr>
                <a:t>전세 임대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4680" y="4947840"/>
              <a:ext cx="2446560" cy="36540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c0066"/>
                  </a:solidFill>
                  <a:latin typeface="Arial"/>
                  <a:ea typeface="휴먼모음T"/>
                </a:rPr>
                <a:t>공공 분양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3720" y="5595840"/>
              <a:ext cx="3286080" cy="344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333399"/>
                  </a:solidFill>
                  <a:latin typeface="휴먼모음T"/>
                  <a:ea typeface="휴먼모음T"/>
                </a:rPr>
                <a:t>주거안전망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6520" y="5595840"/>
              <a:ext cx="2381040" cy="3492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333399"/>
                  </a:solidFill>
                  <a:latin typeface="휴먼모음T"/>
                  <a:ea typeface="휴먼모음T"/>
                </a:rPr>
                <a:t>내집 마련 촉진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8560" y="5600520"/>
              <a:ext cx="2390760" cy="3492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99"/>
                  </a:solidFill>
                  <a:latin typeface="휴먼모음T"/>
                  <a:ea typeface="휴먼모음T"/>
                </a:rPr>
                <a:t>주택가격 안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845560" y="3363840"/>
              <a:ext cx="23760" cy="25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720" y="2992320"/>
              <a:ext cx="4105440" cy="249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55280" y="349704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보금자리 주택의 정책 대상 계층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397560" y="3352680"/>
              <a:ext cx="23760" cy="25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26920" y="213372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83D-787F-499D-8393-2D07F076C9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5:47:43Z</dcterms:created>
  <dc:creator>진미윤</dc:creator>
  <dc:description/>
  <dc:language>en-US</dc:language>
  <cp:lastModifiedBy>진미윤</cp:lastModifiedBy>
  <dcterms:modified xsi:type="dcterms:W3CDTF">2010-08-22T10:38:48Z</dcterms:modified>
  <cp:revision>122</cp:revision>
  <dc:subject/>
  <dc:title>슬라이드 1</dc:title>
</cp:coreProperties>
</file>