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7F01-3588-4815-9F8C-CEED90B8370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72A8-D3E1-4F3A-81EE-923219D641B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슬라이드 번호 개체 틀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66B7-02BC-4DEE-BD63-5D434850D973}" type="slidenum"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7C46-E32A-454C-A29B-0E143698CB3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슬라이드 번호 개체 틀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B755-6009-45D7-90A5-FD03756602B6}" type="slidenum"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C604-3498-47FF-B6A7-5885AA4B312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DC51-9A5B-4D1C-89CC-054AD79EAA22}" type="slidenum"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ADE8-1E87-41C5-955B-5EA19B47390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슬라이드 번호 개체 틀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E54A-B460-4170-860B-6B76D8DCAD98}" type="slidenum"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28DB-9990-4953-8A21-BBE912F2FD5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F941-FE73-43D5-A4A6-9311BE9B52BA}" type="slidenum"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ABF2-2CFC-41DE-AE32-9A34F5BD863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7F54-13AD-48C8-BF0C-341D2A2A5893}" type="slidenum"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B400-E346-4B19-B0CA-A1E2A6C5D38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슬라이드 번호 개체 틀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4FF9-CB6A-4447-B404-EDABD37CFB75}" type="slidenum"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4C7A-FF4B-448E-A73F-BE9A1AB7313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2FCC-60C3-4BC2-B969-3EA73C883E41}" type="slidenum"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86B5-FB5F-4FB9-AF4C-C318580DEA4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슬라이드 번호 개체 틀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04BB-D502-43FD-9342-96756DFD1181}" type="slidenum"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5879-7E22-4B5C-8203-5D9E5AEB2C0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슬라이드 번호 개체 틀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0A07-5A79-4AF9-8361-ECF9F6073914}" type="slidenum"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D307-0696-4A7B-8D95-9109BB8E938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5E1A-01E2-432B-B1E4-2DB88951F5AB}" type="slidenum"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5C2-5AE5-40F7-8CB1-756D461F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20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232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47E-BC9F-45E6-A304-97A24604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2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2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23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23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F4E-9080-493C-884C-43E0548F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2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2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2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23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23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23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C46-AABD-410C-8A66-43A7C009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B4E3-4DE5-47E6-A28D-70D0F365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062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38D8-4E0E-4EDB-9527-D6480E2C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2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36DB-9DF6-4687-8FB4-26EAF6D0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2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062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D2BD-53BE-420A-9D30-9BDA762C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2CBD-7EC8-4B52-A400-DD5A1569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908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6B86-95E7-44C3-AEB3-42A84617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2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2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23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5D0B-2E97-4F8F-9D23-26C3CB5B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2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31B-E5B4-4322-BB07-743838D7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2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2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23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F1B8-1797-4763-9863-E07B9CB3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2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2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232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8FAE-12AE-483F-86D2-6EA12A27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20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232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C893-8E91-4517-9DE0-0088B023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2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2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23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23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1732-238D-4ED0-B1FA-FCC9A164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2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062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062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23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23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23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D3B1-D3D9-43C4-8E3D-D0330686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2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117-B593-46D4-BAD9-A296760B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2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2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8BA-7A73-4582-9667-65DB093F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F5F-D390-4F60-B398-F6D25150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08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E46-203C-46FE-AD8D-CA345BB7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2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2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23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C06-7577-497E-AAAD-4923EFB9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2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2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23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2C0-52A3-4701-929B-FA7FBE2F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2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2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232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95AE-B179-47DB-897B-CC064AF9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2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71E7-5CD5-4E27-8FCE-1D33DCEC1C82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Y견고딕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62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견고딕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견고딕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견고딕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견고딕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견고딕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견고딕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견고딕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HY견고딕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4F30-7023-40AA-8E5B-1FD040BC02DF}" type="slidenum">
              <a:rPr b="0" lang="ko-KR" sz="1200" spc="-1" strike="noStrike">
                <a:solidFill>
                  <a:srgbClr val="898989"/>
                </a:solidFill>
                <a:latin typeface="HY견고딕"/>
                <a:ea typeface="HY견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slide" Target="slide6.xm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그림 7" descr="아이디어_표지.png"/>
          <p:cNvPicPr/>
          <p:nvPr/>
        </p:nvPicPr>
        <p:blipFill>
          <a:blip r:embed="rId1"/>
          <a:stretch/>
        </p:blipFill>
        <p:spPr>
          <a:xfrm>
            <a:off x="5651640" y="3357720"/>
            <a:ext cx="3485880" cy="35002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근로시간면제 관련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근태관리 매뉴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348000" y="4840200"/>
            <a:ext cx="24480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0.  06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276720" y="3716280"/>
            <a:ext cx="273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본 매뉴얼은 기아자동차 사측이 제작하여 현장 관리자들에게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배포한 자료입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제목 2"/>
          <p:cNvSpPr/>
          <p:nvPr/>
        </p:nvSpPr>
        <p:spPr>
          <a:xfrm>
            <a:off x="108000" y="255600"/>
            <a:ext cx="7200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HY견명조"/>
                <a:ea typeface="HY견명조"/>
              </a:rPr>
              <a:t>4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. </a:t>
            </a:r>
            <a:r>
              <a:rPr b="0" lang="ko-KR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조합활동 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(</a:t>
            </a:r>
            <a:r>
              <a:rPr b="0" lang="ko-KR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사전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) </a:t>
            </a:r>
            <a:r>
              <a:rPr b="0" lang="ko-KR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신청서 제출 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Proces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341360"/>
          <a:ext cx="8634240" cy="5605560"/>
        </p:xfrm>
        <a:graphic>
          <a:graphicData uri="http://schemas.openxmlformats.org/drawingml/2006/table">
            <a:tbl>
              <a:tblPr/>
              <a:tblGrid>
                <a:gridCol w="1657080"/>
                <a:gridCol w="1008360"/>
                <a:gridCol w="1041120"/>
                <a:gridCol w="989280"/>
                <a:gridCol w="988920"/>
                <a:gridCol w="1515960"/>
                <a:gridCol w="143352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구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현업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노무주관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근태주관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직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조합활동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근태담당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근태관리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근태책임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부서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조합활동 당사자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직접 조합활동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사전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신청서 작성 제출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신청서 접수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및 근태입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</a:t>
                      </a: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미결종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</a:t>
                      </a: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미결부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승인시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일단위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조합활동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591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시간단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조합무급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592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회의무급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593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가는각진제목체"/>
                          <a:ea typeface="가는각진제목체"/>
                        </a:rPr>
                        <a:t> </a:t>
                      </a: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가는각진제목체"/>
                          <a:ea typeface="가는각진제목체"/>
                        </a:rPr>
                        <a:t>미승인시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가는각진제목체"/>
                          <a:ea typeface="가는각진제목체"/>
                        </a:rPr>
                        <a:t>  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가는각진제목체"/>
                          <a:ea typeface="가는각진제목체"/>
                        </a:rPr>
                        <a:t>무단결근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가는각진제목체"/>
                          <a:ea typeface="가는각진제목체"/>
                        </a:rPr>
                        <a:t>(301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가는각진제목체"/>
                          <a:ea typeface="가는각진제목체"/>
                        </a:rPr>
                        <a:t>  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가는각진제목체"/>
                          <a:ea typeface="가는각진제목체"/>
                        </a:rPr>
                        <a:t>무단이탈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가는각진제목체"/>
                          <a:ea typeface="가는각진제목체"/>
                        </a:rPr>
                        <a:t>(339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승인시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–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조합활동 참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미승인시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–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정상근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수정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·</a:t>
                      </a: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확정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근태확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3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※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노무주관부서의 조합활동 통보가 없는 상태에서 사전 합의되지 않은 조합활동시 반드시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조합활동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사전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)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신고서와 증빙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회의록 등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첨부하여 근무일 기준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2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일 이내 노무주관부서에 제출하여 승인여부를 득해야 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※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부서자체 기각시 즉시 현 업무복귀 근무하여야 하며 시업 후 근무지 복귀지연시 해당시간 사고 적용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87" name="Group 36"/>
          <p:cNvGrpSpPr/>
          <p:nvPr/>
        </p:nvGrpSpPr>
        <p:grpSpPr>
          <a:xfrm>
            <a:off x="2998800" y="2568600"/>
            <a:ext cx="5776920" cy="2012760"/>
            <a:chOff x="2998800" y="2568600"/>
            <a:chExt cx="5776920" cy="2012760"/>
          </a:xfrm>
        </p:grpSpPr>
        <p:sp>
          <p:nvSpPr>
            <p:cNvPr id="188" name="AutoShape 37"/>
            <p:cNvSpPr/>
            <p:nvPr/>
          </p:nvSpPr>
          <p:spPr>
            <a:xfrm>
              <a:off x="3084480" y="2568600"/>
              <a:ext cx="2736720" cy="43164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가는둥근제목체"/>
                  <a:ea typeface="가는둥근제목체"/>
                </a:rPr>
                <a:t>승인여부 판단 결재 후 송부</a:t>
              </a:r>
              <a:endParaRPr b="0" lang="en-US" sz="13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AutoShape 38"/>
            <p:cNvSpPr/>
            <p:nvPr/>
          </p:nvSpPr>
          <p:spPr>
            <a:xfrm>
              <a:off x="3780000" y="3517920"/>
              <a:ext cx="504720" cy="431640"/>
            </a:xfrm>
            <a:prstGeom prst="flowChartAlternateProcess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가는둥근제목체"/>
                  <a:ea typeface="가는둥근제목체"/>
                </a:rPr>
                <a:t>미승인</a:t>
              </a:r>
              <a:endParaRPr b="0" lang="en-US" sz="13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AutoShape 39"/>
            <p:cNvSpPr/>
            <p:nvPr/>
          </p:nvSpPr>
          <p:spPr>
            <a:xfrm>
              <a:off x="4486320" y="3517920"/>
              <a:ext cx="504720" cy="431640"/>
            </a:xfrm>
            <a:prstGeom prst="flowChartAlternateProcess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가는둥근제목체"/>
                  <a:ea typeface="가는둥근제목체"/>
                </a:rPr>
                <a:t>승인</a:t>
              </a:r>
              <a:endParaRPr b="0" lang="en-US" sz="13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91" name="AutoShape 40"/>
            <p:cNvCxnSpPr>
              <a:stCxn id="188" idx="2"/>
              <a:endCxn id="189" idx="0"/>
            </p:cNvCxnSpPr>
            <p:nvPr/>
          </p:nvCxnSpPr>
          <p:spPr>
            <a:xfrm rot="5400000">
              <a:off x="3983040" y="3048840"/>
              <a:ext cx="518400" cy="421200"/>
            </a:xfrm>
            <a:prstGeom prst="bentConnector3">
              <a:avLst>
                <a:gd name="adj1" fmla="val 49965"/>
              </a:avLst>
            </a:prstGeom>
            <a:ln w="93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192" name="AutoShape 41"/>
            <p:cNvCxnSpPr>
              <a:stCxn id="188" idx="2"/>
              <a:endCxn id="190" idx="0"/>
            </p:cNvCxnSpPr>
            <p:nvPr/>
          </p:nvCxnSpPr>
          <p:spPr>
            <a:xfrm flipH="1" rot="16200000">
              <a:off x="4336920" y="3115800"/>
              <a:ext cx="518400" cy="286560"/>
            </a:xfrm>
            <a:prstGeom prst="bentConnector3">
              <a:avLst>
                <a:gd name="adj1" fmla="val 49965"/>
              </a:avLst>
            </a:prstGeom>
            <a:ln w="9360">
              <a:solidFill>
                <a:srgbClr val="0000ff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193" name="AutoShape 42"/>
            <p:cNvSpPr/>
            <p:nvPr/>
          </p:nvSpPr>
          <p:spPr>
            <a:xfrm>
              <a:off x="5435640" y="3517920"/>
              <a:ext cx="466560" cy="431640"/>
            </a:xfrm>
            <a:prstGeom prst="flowChartAlternateProcess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ff"/>
                  </a:solidFill>
                  <a:latin typeface="가는둥근제목체"/>
                  <a:ea typeface="가는둥근제목체"/>
                </a:rPr>
                <a:t>제출</a:t>
              </a:r>
              <a:endParaRPr b="0" lang="en-US" sz="13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94" name="AutoShape 43"/>
            <p:cNvCxnSpPr>
              <a:stCxn id="190" idx="3"/>
              <a:endCxn id="193" idx="1"/>
            </p:cNvCxnSpPr>
            <p:nvPr/>
          </p:nvCxnSpPr>
          <p:spPr>
            <a:xfrm>
              <a:off x="4990680" y="3733200"/>
              <a:ext cx="445320" cy="108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195" name="AutoShape 44"/>
            <p:cNvSpPr/>
            <p:nvPr/>
          </p:nvSpPr>
          <p:spPr>
            <a:xfrm>
              <a:off x="2998800" y="3517920"/>
              <a:ext cx="466560" cy="431640"/>
            </a:xfrm>
            <a:prstGeom prst="flowChartAlternateProcess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ff0000"/>
                  </a:solidFill>
                  <a:latin typeface="가는둥근제목체"/>
                  <a:ea typeface="가는둥근제목체"/>
                </a:rPr>
                <a:t>기각</a:t>
              </a:r>
              <a:endParaRPr b="0" lang="en-US" sz="13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96" name="AutoShape 45"/>
            <p:cNvCxnSpPr>
              <a:stCxn id="189" idx="1"/>
              <a:endCxn id="195" idx="3"/>
            </p:cNvCxnSpPr>
            <p:nvPr/>
          </p:nvCxnSpPr>
          <p:spPr>
            <a:xfrm flipH="1">
              <a:off x="3465000" y="3733200"/>
              <a:ext cx="31536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197" name="AutoShape 46"/>
            <p:cNvSpPr/>
            <p:nvPr/>
          </p:nvSpPr>
          <p:spPr>
            <a:xfrm>
              <a:off x="6745320" y="3504960"/>
              <a:ext cx="479520" cy="432000"/>
            </a:xfrm>
            <a:prstGeom prst="flowChartAlternateProcess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ff"/>
                  </a:solidFill>
                  <a:latin typeface="가는둥근제목체"/>
                  <a:ea typeface="가는둥근제목체"/>
                </a:rPr>
                <a:t>승인</a:t>
              </a:r>
              <a:endParaRPr b="0" lang="en-US" sz="13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AutoShape 47"/>
            <p:cNvSpPr/>
            <p:nvPr/>
          </p:nvSpPr>
          <p:spPr>
            <a:xfrm>
              <a:off x="6180120" y="3504960"/>
              <a:ext cx="479520" cy="432000"/>
            </a:xfrm>
            <a:prstGeom prst="flowChartAlternateProcess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ff0000"/>
                  </a:solidFill>
                  <a:latin typeface="가는둥근제목체"/>
                  <a:ea typeface="가는둥근제목체"/>
                </a:rPr>
                <a:t>미승인</a:t>
              </a:r>
              <a:endParaRPr b="0" lang="en-US" sz="13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99" name="AutoShape 48"/>
            <p:cNvCxnSpPr>
              <a:stCxn id="198" idx="2"/>
              <a:endCxn id="189" idx="2"/>
            </p:cNvCxnSpPr>
            <p:nvPr/>
          </p:nvCxnSpPr>
          <p:spPr>
            <a:xfrm rot="5400000">
              <a:off x="5219280" y="2749320"/>
              <a:ext cx="13320" cy="2388240"/>
            </a:xfrm>
            <a:prstGeom prst="bentConnector3">
              <a:avLst>
                <a:gd name="adj1" fmla="val 4036111"/>
              </a:avLst>
            </a:prstGeom>
            <a:ln w="9360">
              <a:solidFill>
                <a:srgbClr val="ff0000"/>
              </a:solidFill>
              <a:prstDash val="dash"/>
              <a:miter/>
              <a:headEnd len="med" type="oval" w="med"/>
              <a:tailEnd len="med" type="triangle" w="med"/>
            </a:ln>
          </p:spPr>
        </p:cxnSp>
        <p:sp>
          <p:nvSpPr>
            <p:cNvPr id="200" name="AutoShape 49"/>
            <p:cNvSpPr/>
            <p:nvPr/>
          </p:nvSpPr>
          <p:spPr>
            <a:xfrm>
              <a:off x="6083280" y="2568600"/>
              <a:ext cx="1225440" cy="431640"/>
            </a:xfrm>
            <a:prstGeom prst="flowChartAlternateProcess">
              <a:avLst/>
            </a:prstGeom>
            <a:solidFill>
              <a:srgbClr val="ff99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ff"/>
                  </a:solidFill>
                  <a:latin typeface="가는둥근제목체"/>
                  <a:ea typeface="가는둥근제목체"/>
                </a:rPr>
                <a:t>신고서</a:t>
              </a:r>
              <a:r>
                <a:rPr b="0" lang="en-US" sz="1300" spc="-1" strike="noStrike">
                  <a:solidFill>
                    <a:srgbClr val="0000ff"/>
                  </a:solidFill>
                  <a:latin typeface="가는둥근제목체"/>
                  <a:ea typeface="가는둥근제목체"/>
                </a:rPr>
                <a:t>(</a:t>
              </a:r>
              <a:r>
                <a:rPr b="0" lang="ko-KR" sz="1300" spc="-1" strike="noStrike">
                  <a:solidFill>
                    <a:srgbClr val="0000ff"/>
                  </a:solidFill>
                  <a:latin typeface="가는둥근제목체"/>
                  <a:ea typeface="가는둥근제목체"/>
                </a:rPr>
                <a:t>접수</a:t>
              </a:r>
              <a:r>
                <a:rPr b="0" lang="en-US" sz="1300" spc="-1" strike="noStrike">
                  <a:solidFill>
                    <a:srgbClr val="0000ff"/>
                  </a:solidFill>
                  <a:latin typeface="가는둥근제목체"/>
                  <a:ea typeface="가는둥근제목체"/>
                </a:rPr>
                <a:t>/</a:t>
              </a:r>
              <a:r>
                <a:rPr b="0" lang="ko-KR" sz="1300" spc="-1" strike="noStrike">
                  <a:solidFill>
                    <a:srgbClr val="0000ff"/>
                  </a:solidFill>
                  <a:latin typeface="가는둥근제목체"/>
                  <a:ea typeface="가는둥근제목체"/>
                </a:rPr>
                <a:t>결과</a:t>
              </a:r>
              <a:r>
                <a:rPr b="0" lang="en-US" sz="1300" spc="-1" strike="noStrike">
                  <a:solidFill>
                    <a:srgbClr val="0000ff"/>
                  </a:solidFill>
                  <a:latin typeface="가는둥근제목체"/>
                  <a:ea typeface="가는둥근제목체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01" name="AutoShape 50"/>
            <p:cNvCxnSpPr>
              <a:stCxn id="200" idx="2"/>
              <a:endCxn id="198" idx="0"/>
            </p:cNvCxnSpPr>
            <p:nvPr/>
          </p:nvCxnSpPr>
          <p:spPr>
            <a:xfrm rot="5400000">
              <a:off x="6304680" y="3114360"/>
              <a:ext cx="505440" cy="27684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202" name="AutoShape 51"/>
            <p:cNvCxnSpPr>
              <a:stCxn id="200" idx="2"/>
              <a:endCxn id="197" idx="0"/>
            </p:cNvCxnSpPr>
            <p:nvPr/>
          </p:nvCxnSpPr>
          <p:spPr>
            <a:xfrm flipH="1" rot="16200000">
              <a:off x="6586920" y="3107880"/>
              <a:ext cx="505440" cy="28944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ff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203" name="AutoShape 52"/>
            <p:cNvCxnSpPr>
              <a:stCxn id="193" idx="3"/>
              <a:endCxn id="200" idx="1"/>
            </p:cNvCxnSpPr>
            <p:nvPr/>
          </p:nvCxnSpPr>
          <p:spPr>
            <a:xfrm flipV="1">
              <a:off x="5901840" y="2783520"/>
              <a:ext cx="181800" cy="95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ff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204" name="AutoShape 53"/>
            <p:cNvSpPr/>
            <p:nvPr/>
          </p:nvSpPr>
          <p:spPr>
            <a:xfrm>
              <a:off x="7550280" y="2571480"/>
              <a:ext cx="1225440" cy="432000"/>
            </a:xfrm>
            <a:prstGeom prst="flowChartAlternateProcess">
              <a:avLst/>
            </a:prstGeom>
            <a:solidFill>
              <a:srgbClr val="ff99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ff"/>
                  </a:solidFill>
                  <a:latin typeface="가는둥근제목체"/>
                  <a:ea typeface="가는둥근제목체"/>
                </a:rPr>
                <a:t>승인결과 접수</a:t>
              </a:r>
              <a:endParaRPr b="0" lang="en-US" sz="13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05" name="AutoShape 54"/>
            <p:cNvCxnSpPr>
              <a:stCxn id="197" idx="2"/>
              <a:endCxn id="190" idx="2"/>
            </p:cNvCxnSpPr>
            <p:nvPr/>
          </p:nvCxnSpPr>
          <p:spPr>
            <a:xfrm rot="5400000">
              <a:off x="5855040" y="2819880"/>
              <a:ext cx="13320" cy="2247120"/>
            </a:xfrm>
            <a:prstGeom prst="bentConnector3">
              <a:avLst>
                <a:gd name="adj1" fmla="val 3861111"/>
              </a:avLst>
            </a:prstGeom>
            <a:ln w="9360">
              <a:solidFill>
                <a:srgbClr val="0000ff"/>
              </a:solidFill>
              <a:prstDash val="dash"/>
              <a:miter/>
              <a:headEnd len="med" type="oval" w="med"/>
              <a:tailEnd len="med" type="triangle" w="med"/>
            </a:ln>
          </p:spPr>
        </p:cxnSp>
        <p:sp>
          <p:nvSpPr>
            <p:cNvPr id="206" name="AutoShape 55"/>
            <p:cNvSpPr/>
            <p:nvPr/>
          </p:nvSpPr>
          <p:spPr>
            <a:xfrm>
              <a:off x="4932360" y="4292640"/>
              <a:ext cx="1079640" cy="288720"/>
            </a:xfrm>
            <a:prstGeom prst="flowChartAlternateProcess">
              <a:avLst/>
            </a:prstGeom>
            <a:solidFill>
              <a:srgbClr val="ff99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ff"/>
                  </a:solidFill>
                  <a:latin typeface="가는둥근제목체"/>
                  <a:ea typeface="가는둥근제목체"/>
                </a:rPr>
                <a:t>결과회신처리</a:t>
              </a:r>
              <a:endParaRPr b="0" lang="en-US" sz="13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Line 56"/>
            <p:cNvSpPr/>
            <p:nvPr/>
          </p:nvSpPr>
          <p:spPr>
            <a:xfrm flipV="1">
              <a:off x="6697800" y="3130560"/>
              <a:ext cx="691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Line 57"/>
            <p:cNvSpPr/>
            <p:nvPr/>
          </p:nvSpPr>
          <p:spPr>
            <a:xfrm flipV="1">
              <a:off x="7405560" y="2771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Line 58"/>
            <p:cNvSpPr/>
            <p:nvPr/>
          </p:nvSpPr>
          <p:spPr>
            <a:xfrm>
              <a:off x="7405560" y="2771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제목 2"/>
          <p:cNvSpPr/>
          <p:nvPr/>
        </p:nvSpPr>
        <p:spPr>
          <a:xfrm>
            <a:off x="108000" y="255600"/>
            <a:ext cx="7200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HY견명조"/>
                <a:ea typeface="HY견명조"/>
              </a:rPr>
              <a:t>5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. </a:t>
            </a:r>
            <a:r>
              <a:rPr b="0" lang="ko-KR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기타사항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468360" y="1484280"/>
            <a:ext cx="8351640" cy="48974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노동조합의 자주성 확보와 건전한 노사관계 발전을 위한 전임자 급여지급 금지 관련 노동법  및 노동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고시에 따라 당사는 년 최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38,000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시간 한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풀타임 인원 기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19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파트타임 인원 기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38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에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조합활동에 대한 근로시간 면제가 가능하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이를 위반 시 회사는 부당노동 행위로 처벌받게 됩니다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또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법 시행 시점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7.1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일 이후 노동부의 법 준수 관련 지속적인 실태조사가 예정되어 있습니다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    </a:t>
            </a:r>
            <a:r>
              <a:rPr b="0" lang="ko-KR" sz="1200" spc="-1" strike="noStrike">
                <a:solidFill>
                  <a:srgbClr val="0000ff"/>
                </a:solidFill>
                <a:latin typeface="Arial"/>
                <a:ea typeface="HY견고딕"/>
              </a:rPr>
              <a:t>개정 노동법은 노사 모두 준수해야 하는 강행법규로서 어떠한 변칙이나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HY견고딕"/>
              </a:rPr>
              <a:t>, </a:t>
            </a:r>
            <a:r>
              <a:rPr b="0" lang="ko-KR" sz="1200" spc="-1" strike="noStrike">
                <a:solidFill>
                  <a:srgbClr val="0000ff"/>
                </a:solidFill>
                <a:latin typeface="Arial"/>
                <a:ea typeface="HY견고딕"/>
              </a:rPr>
              <a:t>편법적 방법으로 회피할 수 있는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ff"/>
                </a:solidFill>
                <a:latin typeface="Arial"/>
                <a:ea typeface="HY견고딕"/>
              </a:rPr>
              <a:t>     </a:t>
            </a:r>
            <a:r>
              <a:rPr b="0" lang="ko-KR" sz="1200" spc="-1" strike="noStrike">
                <a:solidFill>
                  <a:srgbClr val="0000ff"/>
                </a:solidFill>
                <a:latin typeface="Arial"/>
                <a:ea typeface="HY견고딕"/>
              </a:rPr>
              <a:t>사안이 아니므로 법에 위반되는 사례가 발생하지 않도록 근태관리에 만전을 기해 주시기 바랍니다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5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조합활동 근태처리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근로시간면제시간을 초과하는 경우 → 무급적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※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조합원 교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대의원 대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총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임원선거 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각종 위원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노사공동 위원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대위원 활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생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‧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산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관련 회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부서회의 포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등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견고딕"/>
              </a:rPr>
              <a:t>조합활동 무급처리 원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1116000" y="4724280"/>
            <a:ext cx="7056360" cy="136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HY견고딕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HY견고딕"/>
              </a:rPr>
              <a:t>&lt;</a:t>
            </a:r>
            <a:r>
              <a:rPr b="0" lang="ko-KR" sz="1200" spc="-1" strike="noStrike">
                <a:solidFill>
                  <a:srgbClr val="0000ff"/>
                </a:solidFill>
                <a:latin typeface="Arial"/>
                <a:ea typeface="HY견고딕"/>
              </a:rPr>
              <a:t>조합원교육 관련 노동부 입장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HY견고딕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HY견명조"/>
              </a:rPr>
              <a:t>     </a:t>
            </a: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HY견명조"/>
              </a:rPr>
              <a:t>조합원 교육은 순수 조합활동으로 건전한 노사관계 발전을 위한 활동 등에 해당되지 않으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HY견명조"/>
              </a:rPr>
              <a:t>     </a:t>
            </a: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HY견명조"/>
              </a:rPr>
              <a:t>근로시간면제 대상이 아님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HY견명조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HY견명조"/>
              </a:rPr>
              <a:t>     </a:t>
            </a: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HY견명조"/>
              </a:rPr>
              <a:t>따라서 근무시간외 시행하는 것이 원칙임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HY견명조"/>
              </a:rPr>
              <a:t>. </a:t>
            </a: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HY견명조"/>
              </a:rPr>
              <a:t>근무시간 내 시행 시 노동법에 따라 무급이 적용되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HY견명조"/>
              </a:rPr>
              <a:t>     </a:t>
            </a: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HY견명조"/>
              </a:rPr>
              <a:t>위반 시 부당노동행위에 해당됨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HY견명조"/>
              </a:rPr>
              <a:t>.</a:t>
            </a:r>
            <a:r>
              <a:rPr b="0" lang="en-US" sz="1200" spc="-1" strike="noStrike">
                <a:solidFill>
                  <a:srgbClr val="0000ff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제목 2"/>
          <p:cNvSpPr/>
          <p:nvPr/>
        </p:nvSpPr>
        <p:spPr>
          <a:xfrm>
            <a:off x="108000" y="255600"/>
            <a:ext cx="7200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HY견명조"/>
                <a:ea typeface="HY견명조"/>
              </a:rPr>
              <a:t>◎ </a:t>
            </a:r>
            <a:r>
              <a:rPr b="0" lang="ko-KR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첨부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. </a:t>
            </a:r>
            <a:r>
              <a:rPr b="0" lang="ko-KR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조합활동 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(</a:t>
            </a:r>
            <a:r>
              <a:rPr b="0" lang="ko-KR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사전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) </a:t>
            </a:r>
            <a:r>
              <a:rPr b="0" lang="ko-KR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신청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4" name="Object 568"/>
          <p:cNvGraphicFramePr/>
          <p:nvPr/>
        </p:nvGraphicFramePr>
        <p:xfrm>
          <a:off x="120600" y="1481040"/>
          <a:ext cx="8928000" cy="537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Object 568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600" y="1481040"/>
                    <a:ext cx="8928000" cy="53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AutoShape 569">
            <a:hlinkClick r:id="" action="ppaction://hlinkshowjump?jump=previousslide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13440" y="3837"/>
                </a:moveTo>
                <a:lnTo>
                  <a:pt x="16017" y="6448"/>
                </a:ln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lnTo>
                  <a:pt x="20403" y="10800"/>
                </a:lnTo>
                <a:lnTo>
                  <a:pt x="18750" y="10800"/>
                </a:lnTo>
                <a:lnTo>
                  <a:pt x="18750" y="17989"/>
                </a:lnTo>
                <a:lnTo>
                  <a:pt x="8131" y="17989"/>
                </a:lnTo>
                <a:lnTo>
                  <a:pt x="8131" y="10800"/>
                </a:lnTo>
                <a:lnTo>
                  <a:pt x="6477" y="10800"/>
                </a:lnTo>
                <a:close/>
              </a:path>
              <a:path fill="darkenLess" w="26881" h="21600">
                <a:moveTo>
                  <a:pt x="16017" y="6448"/>
                </a:move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close/>
              </a:path>
              <a:path fill="darkenLess" w="26881" h="21600">
                <a:moveTo>
                  <a:pt x="12518" y="14299"/>
                </a:moveTo>
                <a:lnTo>
                  <a:pt x="14363" y="14299"/>
                </a:lnTo>
                <a:lnTo>
                  <a:pt x="14363" y="17989"/>
                </a:lnTo>
                <a:lnTo>
                  <a:pt x="18750" y="17989"/>
                </a:lnTo>
                <a:lnTo>
                  <a:pt x="18750" y="10800"/>
                </a:lnTo>
                <a:lnTo>
                  <a:pt x="8131" y="10800"/>
                </a:lnTo>
                <a:lnTo>
                  <a:pt x="8131" y="17989"/>
                </a:lnTo>
                <a:lnTo>
                  <a:pt x="1251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제목 2"/>
          <p:cNvSpPr/>
          <p:nvPr/>
        </p:nvSpPr>
        <p:spPr>
          <a:xfrm>
            <a:off x="108000" y="255600"/>
            <a:ext cx="7200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HY견명조"/>
                <a:ea typeface="HY견명조"/>
              </a:rPr>
              <a:t>1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. </a:t>
            </a:r>
            <a:r>
              <a:rPr b="0" lang="ko-KR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근태적용 기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0200" y="1557360"/>
          <a:ext cx="8477280" cy="5033880"/>
        </p:xfrm>
        <a:graphic>
          <a:graphicData uri="http://schemas.openxmlformats.org/drawingml/2006/table">
            <a:tbl>
              <a:tblPr/>
              <a:tblGrid>
                <a:gridCol w="216000"/>
                <a:gridCol w="1005480"/>
                <a:gridCol w="850320"/>
                <a:gridCol w="850320"/>
                <a:gridCol w="849960"/>
                <a:gridCol w="850320"/>
                <a:gridCol w="850320"/>
                <a:gridCol w="849960"/>
                <a:gridCol w="71640"/>
                <a:gridCol w="1042200"/>
                <a:gridCol w="1040760"/>
              </a:tblGrid>
              <a:tr h="290520"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구     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사전 합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승인 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0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사전 미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(</a:t>
                      </a: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승인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)</a:t>
                      </a: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합의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전임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근로시간 면제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일반 조합원 조합활동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풀타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파트타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근태기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전임휴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(590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근면기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(59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근면종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(59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조합활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(59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조합무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(59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미결종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(596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미결부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(596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6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회의무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(59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입력단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기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기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시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시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시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5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임금기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ff0000"/>
                          </a:solidFill>
                          <a:latin typeface="Arial"/>
                          <a:ea typeface="A033태고딕"/>
                        </a:rPr>
                        <a:t>무  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3333ff"/>
                          </a:solidFill>
                          <a:latin typeface="Arial"/>
                          <a:ea typeface="A033태고딕"/>
                        </a:rPr>
                        <a:t>유   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ff0000"/>
                          </a:solidFill>
                          <a:latin typeface="Arial"/>
                          <a:ea typeface="A033태고딕"/>
                        </a:rPr>
                        <a:t>무   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0000"/>
                          </a:solidFill>
                          <a:latin typeface="Arial"/>
                          <a:ea typeface="A033태고딕"/>
                        </a:rPr>
                        <a:t>무   급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근태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근태주관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ff"/>
                          </a:solidFill>
                          <a:latin typeface="Arial"/>
                          <a:ea typeface="HY견고딕"/>
                        </a:rPr>
                        <a:t>소속 부서</a:t>
                      </a: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  <a:ea typeface="HY견고딕"/>
                        </a:rPr>
                        <a:t>(</a:t>
                      </a:r>
                      <a:r>
                        <a:rPr b="1" lang="ko-KR" sz="1300" spc="-1" strike="noStrike">
                          <a:solidFill>
                            <a:srgbClr val="0000ff"/>
                          </a:solidFill>
                          <a:latin typeface="Arial"/>
                          <a:ea typeface="HY견고딕"/>
                        </a:rPr>
                        <a:t>반</a:t>
                      </a: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  <a:ea typeface="HY견고딕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9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시행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144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75"/>
                        </a:spcBef>
                        <a:buClr>
                          <a:srgbClr val="cc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각 부문 노무주관팀에서 부서 사전 통보 → 근태주관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소속 부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대상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기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조합활동 내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75"/>
                        </a:spcBef>
                        <a:buClr>
                          <a:srgbClr val="cc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전임자 및 풀타임 근로시간 면제자 限 → 인사발령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: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노동조합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지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지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75"/>
                        </a:spcBef>
                        <a:buClr>
                          <a:srgbClr val="cc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근태입력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: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근태주관팀 사전 일괄 처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75"/>
                        </a:spcBef>
                        <a:buClr>
                          <a:srgbClr val="cc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적용기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전임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풀타임 근로시간 면제자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: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조합활동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1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개월 이상 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일반조합활동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파트타임 근로시간 면제자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: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조합활동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1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개월 미만 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44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75"/>
                        </a:spcBef>
                        <a:buClr>
                          <a:srgbClr val="cc0000"/>
                        </a:buClr>
                        <a:buSzPct val="6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무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부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)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미입력 조치 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해당 근태관리자 페널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275"/>
                        </a:spcBef>
                        <a:buClr>
                          <a:srgbClr val="cc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최종 승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확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해당 부문 노사협력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44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6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비       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  ※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경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·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생산관련 회의는 근로시간 면제자가 우선 참여 원칙으로 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근면자만으로 회의체 구성이 어려울 시 노사협의 전까지는 개정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기준을 적용하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추후 노사협의 결과에 따른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제목 2"/>
          <p:cNvSpPr/>
          <p:nvPr/>
        </p:nvSpPr>
        <p:spPr>
          <a:xfrm>
            <a:off x="108000" y="255600"/>
            <a:ext cx="7200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HY견명조"/>
                <a:ea typeface="HY견명조"/>
              </a:rPr>
              <a:t>2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. </a:t>
            </a:r>
            <a:r>
              <a:rPr b="0" lang="ko-KR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세부적용 기준 </a:t>
            </a:r>
            <a:r>
              <a:rPr b="0" lang="en-US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(</a:t>
            </a:r>
            <a:r>
              <a:rPr b="0" lang="ko-KR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전임자</a:t>
            </a:r>
            <a:r>
              <a:rPr b="0" lang="en-US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8440" y="1477800"/>
          <a:ext cx="8569440" cy="5597640"/>
        </p:xfrm>
        <a:graphic>
          <a:graphicData uri="http://schemas.openxmlformats.org/drawingml/2006/table">
            <a:tbl>
              <a:tblPr/>
              <a:tblGrid>
                <a:gridCol w="1177920"/>
                <a:gridCol w="5183280"/>
                <a:gridCol w="2208240"/>
              </a:tblGrid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구   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세     부     내     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비     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대   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노동조합 업무에만 종사하는 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업무범위 및 인원수는 노사합의로 결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74"/>
                        </a:spcBef>
                        <a:buClr>
                          <a:srgbClr val="ff6699"/>
                        </a:buClr>
                        <a:buSzPct val="5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876"/>
                        </a:spcBef>
                        <a:buClr>
                          <a:srgbClr val="ff6699"/>
                        </a:buClr>
                        <a:buSzPct val="5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적용통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인사발령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노동조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지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지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876"/>
                        </a:spcBef>
                        <a:buClr>
                          <a:srgbClr val="ff6699"/>
                        </a:buClr>
                        <a:buSzPct val="5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근태입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근태주관팀 관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876"/>
                        </a:spcBef>
                        <a:buClr>
                          <a:srgbClr val="ff6699"/>
                        </a:buClr>
                        <a:buSzPct val="5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근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전임휴직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5900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명조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임   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사용자의 급여 지급은 금지됨 </a:t>
                      </a:r>
                      <a:r>
                        <a:rPr b="1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HY견고딕"/>
                        </a:rPr>
                        <a:t>(</a:t>
                      </a:r>
                      <a:r>
                        <a:rPr b="1" lang="ko-KR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HY견고딕"/>
                        </a:rPr>
                        <a:t>전임자 </a:t>
                      </a:r>
                      <a:r>
                        <a:rPr b="1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HY견고딕"/>
                        </a:rPr>
                        <a:t>= </a:t>
                      </a:r>
                      <a:r>
                        <a:rPr b="1" lang="ko-KR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HY견고딕"/>
                        </a:rPr>
                        <a:t>무급</a:t>
                      </a:r>
                      <a:r>
                        <a:rPr b="1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HY견고딕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노조 자체 재정에서 부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기   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조합활동 기간이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개월 이상인 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관련법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노동조합 및 노동조합 관계법 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24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항 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24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노동조합의 전임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①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근로자는 단체협약으로 정하거나 사용자의 동의가 있는 경우에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근로계약 소정의 근로를 제공하지 아니하고 노동조합의 업무에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종사할 수 있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  ②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항의 규정에 의하여 노동조합의 업무에만 종사하는 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이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"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전임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"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라 한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는 그 전임 기간 동안 </a:t>
                      </a:r>
                      <a:r>
                        <a:rPr b="0" lang="ko-KR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가는둥근제목체"/>
                        </a:rPr>
                        <a:t>사용자로부터 어떠한 급여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0000"/>
                          </a:solidFill>
                          <a:latin typeface="Arial"/>
                          <a:ea typeface="가는둥근제목체"/>
                        </a:rPr>
                        <a:t>          </a:t>
                      </a:r>
                      <a:r>
                        <a:rPr b="0" lang="ko-KR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가는둥근제목체"/>
                        </a:rPr>
                        <a:t>지급받아서는 아니 된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제목 2"/>
          <p:cNvSpPr/>
          <p:nvPr/>
        </p:nvSpPr>
        <p:spPr>
          <a:xfrm>
            <a:off x="108000" y="255600"/>
            <a:ext cx="7200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HY견명조"/>
                <a:ea typeface="HY견명조"/>
              </a:rPr>
              <a:t>2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. </a:t>
            </a:r>
            <a:r>
              <a:rPr b="0" lang="ko-KR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세부적용 기준 </a:t>
            </a:r>
            <a:r>
              <a:rPr b="0" lang="en-US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(</a:t>
            </a:r>
            <a:r>
              <a:rPr b="0" lang="ko-KR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근로시간 면제자</a:t>
            </a:r>
            <a:r>
              <a:rPr b="0" lang="en-US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98440" y="1477800"/>
          <a:ext cx="8569440" cy="5191200"/>
        </p:xfrm>
        <a:graphic>
          <a:graphicData uri="http://schemas.openxmlformats.org/drawingml/2006/table">
            <a:tbl>
              <a:tblPr/>
              <a:tblGrid>
                <a:gridCol w="1177920"/>
                <a:gridCol w="4967280"/>
                <a:gridCol w="2424240"/>
              </a:tblGrid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구   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세     부     내     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비     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대   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근로시간 면제 한도 內 근로를 면제받은 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노조법에 규정된 </a:t>
                      </a:r>
                      <a:r>
                        <a:rPr b="1" lang="ko-KR" sz="14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  <a:ea typeface="HY견명조"/>
                        </a:rPr>
                        <a:t>면제 대상 업무 수행 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74"/>
                        </a:spcBef>
                        <a:buClr>
                          <a:srgbClr val="ff6699"/>
                        </a:buClr>
                        <a:buSzPct val="5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876"/>
                        </a:spcBef>
                        <a:buClr>
                          <a:srgbClr val="ff6699"/>
                        </a:buClr>
                        <a:buSzPct val="5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적용통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풀타임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: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인사발령 시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·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노동조합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지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지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파트타임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: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협조전 통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·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노무주관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876"/>
                        </a:spcBef>
                        <a:buClr>
                          <a:srgbClr val="ff6699"/>
                        </a:buClr>
                        <a:buSzPct val="5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근태입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근태주관팀 관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876"/>
                        </a:spcBef>
                        <a:buClr>
                          <a:srgbClr val="ff6699"/>
                        </a:buClr>
                        <a:buSzPct val="5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근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풀 타 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근면기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Bold"/>
                          <a:ea typeface="나눔고딕 Bold"/>
                        </a:rPr>
                        <a:t>590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파트타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근면종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Bold"/>
                          <a:ea typeface="나눔고딕 Bold"/>
                        </a:rPr>
                        <a:t>591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임   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면제 대상 업무 활동에 대한 유급처리 가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근로시간 면제 한도 초과 시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가는둥근제목체"/>
                        </a:rPr>
                        <a:t>‘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Arial"/>
                          <a:ea typeface="가는둥근제목체"/>
                        </a:rPr>
                        <a:t>무급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가는둥근제목체"/>
                        </a:rPr>
                        <a:t>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면제대상 업무 外 조합활동 시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가는둥근제목체"/>
                        </a:rPr>
                        <a:t>‘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Arial"/>
                          <a:ea typeface="가는둥근제목체"/>
                        </a:rPr>
                        <a:t>무급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가는둥근제목체"/>
                        </a:rPr>
                        <a:t>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운영기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사전 합의 된 근로시간 면제 한도 內 운영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Bold"/>
                          <a:ea typeface="나눔고딕 Bold"/>
                        </a:rPr>
                        <a:t>38,0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풀타임 근로시간 면제자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Bold"/>
                          <a:ea typeface="나눔고딕 Bold"/>
                        </a:rPr>
                        <a:t>19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Bold"/>
                          <a:ea typeface="나눔고딕 Bold"/>
                        </a:rPr>
                        <a:t>명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이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파트타임 근로시간 면제자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: 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Bold"/>
                          <a:ea typeface="나눔고딕 Bold"/>
                        </a:rPr>
                        <a:t>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Bold"/>
                          <a:ea typeface="나눔고딕 Bold"/>
                        </a:rPr>
                        <a:t>명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이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관련법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노동조합 및 노동조합 관계법 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24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4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근로시간면제 대상 업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사용자와의 협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·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교섭 업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고충처리 업무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근참법 및 회사 규정에 의거 정식 위촉된 위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산업안전 활동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관련법 근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사내근로복지기금법 관련 업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건전한 노사관계 발전을 위한 노조 유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·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관리 업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제목 2"/>
          <p:cNvSpPr/>
          <p:nvPr/>
        </p:nvSpPr>
        <p:spPr>
          <a:xfrm>
            <a:off x="108000" y="255600"/>
            <a:ext cx="7200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HY견명조"/>
                <a:ea typeface="HY견명조"/>
              </a:rPr>
              <a:t>2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. </a:t>
            </a:r>
            <a:r>
              <a:rPr b="0" lang="ko-KR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세부적용 기준 </a:t>
            </a:r>
            <a:r>
              <a:rPr b="0" lang="en-US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(</a:t>
            </a:r>
            <a:r>
              <a:rPr b="0" lang="ko-KR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일반 조합원 조합활동</a:t>
            </a:r>
            <a:r>
              <a:rPr b="0" lang="en-US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_</a:t>
            </a:r>
            <a:r>
              <a:rPr b="0" lang="ko-KR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사전 승인</a:t>
            </a:r>
            <a:r>
              <a:rPr b="0" lang="en-US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/</a:t>
            </a:r>
            <a:r>
              <a:rPr b="0" lang="ko-KR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합의</a:t>
            </a:r>
            <a:r>
              <a:rPr b="0" lang="en-US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98440" y="1477800"/>
          <a:ext cx="8569440" cy="4907160"/>
        </p:xfrm>
        <a:graphic>
          <a:graphicData uri="http://schemas.openxmlformats.org/drawingml/2006/table">
            <a:tbl>
              <a:tblPr/>
              <a:tblGrid>
                <a:gridCol w="1177920"/>
                <a:gridCol w="4967280"/>
                <a:gridCol w="2424240"/>
              </a:tblGrid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구   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세     부     내     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비     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대   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전임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근면자를 제외 한 사전 합의된 조합활동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조합원 총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대의원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임원 선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각종 위원회 활동 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근무시간 內 조합활동은 사전 회사의 승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/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합의 시 가능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HY견명조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74"/>
                        </a:spcBef>
                        <a:buClr>
                          <a:srgbClr val="ff6699"/>
                        </a:buClr>
                        <a:buSzPct val="5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876"/>
                        </a:spcBef>
                        <a:buClr>
                          <a:srgbClr val="ff6699"/>
                        </a:buClr>
                        <a:buSzPct val="5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적용통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노무주관팀 협조전 통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876"/>
                        </a:spcBef>
                        <a:buClr>
                          <a:srgbClr val="ff6699"/>
                        </a:buClr>
                        <a:buSzPct val="5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근태입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근태주관팀 관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876"/>
                        </a:spcBef>
                        <a:buClr>
                          <a:srgbClr val="ff6699"/>
                        </a:buClr>
                        <a:buSzPct val="5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근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일단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조합활동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Bold"/>
                          <a:ea typeface="나눔고딕 Bold"/>
                        </a:rPr>
                        <a:t>59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시간단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조합무급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Bold"/>
                          <a:ea typeface="나눔고딕 Bold"/>
                        </a:rPr>
                        <a:t>59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      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회의무급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Bold"/>
                          <a:ea typeface="나눔고딕 Bold"/>
                        </a:rPr>
                        <a:t>593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)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임   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근무시간 內 조합활동 시 </a:t>
                      </a:r>
                      <a:r>
                        <a:rPr b="1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HY견고딕"/>
                        </a:rPr>
                        <a:t>“</a:t>
                      </a:r>
                      <a:r>
                        <a:rPr b="1" lang="ko-KR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HY견고딕"/>
                        </a:rPr>
                        <a:t>무급</a:t>
                      </a:r>
                      <a:r>
                        <a:rPr b="1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HY견고딕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조합활동의 기본원칙은 </a:t>
                      </a:r>
                      <a:r>
                        <a:rPr b="1" lang="ko-KR" sz="1400" spc="-1" strike="noStrike">
                          <a:solidFill>
                            <a:srgbClr val="3333ff"/>
                          </a:solidFill>
                          <a:latin typeface="Arial"/>
                          <a:ea typeface="가는둥근제목체"/>
                        </a:rPr>
                        <a:t>근무시간 外 실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기   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조합활동 기간이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개월 미만 인 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일 단위의 조합활동은 일 소정근로시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시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으로 함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비   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사전 합의된 조합활동이란 노무주관팀에 통보 및 승인을 득한 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751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조합원 교육은 순수 조합활동으로 근로시간면제 대상 제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제목 2"/>
          <p:cNvSpPr/>
          <p:nvPr/>
        </p:nvSpPr>
        <p:spPr>
          <a:xfrm>
            <a:off x="108000" y="255600"/>
            <a:ext cx="7200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HY견명조"/>
                <a:ea typeface="HY견명조"/>
              </a:rPr>
              <a:t>2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. </a:t>
            </a:r>
            <a:r>
              <a:rPr b="0" lang="ko-KR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세부적용 기준 </a:t>
            </a:r>
            <a:r>
              <a:rPr b="0" lang="en-US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(</a:t>
            </a:r>
            <a:r>
              <a:rPr b="0" lang="ko-KR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미승인</a:t>
            </a:r>
            <a:r>
              <a:rPr b="0" lang="en-US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/</a:t>
            </a:r>
            <a:r>
              <a:rPr b="0" lang="ko-KR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미합의 조합활동</a:t>
            </a:r>
            <a:r>
              <a:rPr b="0" lang="en-US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98440" y="1477800"/>
          <a:ext cx="8569440" cy="5096160"/>
        </p:xfrm>
        <a:graphic>
          <a:graphicData uri="http://schemas.openxmlformats.org/drawingml/2006/table">
            <a:tbl>
              <a:tblPr/>
              <a:tblGrid>
                <a:gridCol w="1177920"/>
                <a:gridCol w="4967280"/>
                <a:gridCol w="2424240"/>
              </a:tblGrid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구   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세     부     내     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비     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7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대   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사전 노사합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회사승인을 득하지 못한 조합활동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사전 노무주관팀의 통보가 없는 경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74"/>
                        </a:spcBef>
                        <a:buClr>
                          <a:srgbClr val="ff6699"/>
                        </a:buClr>
                        <a:buSzPct val="5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374"/>
                        </a:spcBef>
                        <a:buClr>
                          <a:srgbClr val="ff6699"/>
                        </a:buClr>
                        <a:buSzPct val="5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44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6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근   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소속 부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)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직접 근태입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조합활동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사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)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신청서 제출 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일단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미결종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5960)  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시간단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미결부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59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조합활동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사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)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신청서 미제출 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일단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무단결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3010)  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시간단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무단이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33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1" lang="ko-KR" sz="13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  <a:ea typeface="HY견고딕"/>
                        </a:rPr>
                        <a:t>해당직원 인사 상 불이익 고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876"/>
                        </a:spcBef>
                        <a:buClr>
                          <a:srgbClr val="ff6699"/>
                        </a:buClr>
                        <a:buSzPct val="5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ff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신청서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관련증빙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근무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)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이내 노무주관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통보 후 조합활동 승인 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근태확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876"/>
                        </a:spcBef>
                        <a:buClr>
                          <a:srgbClr val="ff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3333ff"/>
                          </a:solidFill>
                          <a:latin typeface="Arial"/>
                          <a:ea typeface="가는둥근제목체"/>
                        </a:rPr>
                        <a:t>쟁의행위 관련 사항은 별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3333ff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1" lang="ko-KR" sz="1400" spc="-1" strike="noStrike">
                          <a:solidFill>
                            <a:srgbClr val="3333ff"/>
                          </a:solidFill>
                          <a:latin typeface="Arial"/>
                          <a:ea typeface="가는둥근제목체"/>
                        </a:rPr>
                        <a:t>근태지침 통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파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/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집회 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44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협조사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876"/>
                        </a:spcBef>
                        <a:buClr>
                          <a:srgbClr val="c0504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조합활동 사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미신고 시 해당자 근무이탈 시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사유 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소속 부서 관리자에게 신고 후 해당 관리자는 즉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노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/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HY견고딕"/>
                        </a:rPr>
                        <a:t>근태주관팀으로 통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876"/>
                        </a:spcBef>
                        <a:buClr>
                          <a:srgbClr val="ff6699"/>
                        </a:buClr>
                        <a:buSzPct val="5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가는둥근제목체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808080"/>
                          </a:solidFill>
                          <a:latin typeface="Arial"/>
                          <a:ea typeface="가는둥근제목체"/>
                        </a:rPr>
                        <a:t>조합활동  변칙처리 건  부서 근태관리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808080"/>
                          </a:solidFill>
                          <a:latin typeface="Arial"/>
                          <a:ea typeface="가는둥근제목체"/>
                        </a:rPr>
                        <a:t>   </a:t>
                      </a:r>
                      <a:r>
                        <a:rPr b="0" lang="ko-KR" sz="1100" spc="-1" strike="noStrike">
                          <a:solidFill>
                            <a:srgbClr val="808080"/>
                          </a:solidFill>
                          <a:latin typeface="Arial"/>
                          <a:ea typeface="가는둥근제목체"/>
                        </a:rPr>
                        <a:t>전원 징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44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76200" y="1700280"/>
          <a:ext cx="8540640" cy="4565520"/>
        </p:xfrm>
        <a:graphic>
          <a:graphicData uri="http://schemas.openxmlformats.org/drawingml/2006/table">
            <a:tbl>
              <a:tblPr/>
              <a:tblGrid>
                <a:gridCol w="1316160"/>
                <a:gridCol w="895320"/>
                <a:gridCol w="1041480"/>
                <a:gridCol w="3087720"/>
                <a:gridCol w="2199960"/>
              </a:tblGrid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근 태 사 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임금적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승인권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적   용   기   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비   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4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연월차휴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소속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사용시기 변경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4f81b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본인 휴가신청 시 인정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조합활동 구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부재 문제 발생 시 사용시기 변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조       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무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소속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18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4f81bd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근태관리 규정 상 개인적인 사유 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HY헤드라인M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조합활동은  승인 불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가는둥근제목체"/>
                        </a:rPr>
                        <a:t>조합활동 관련 근태입력 기준 철저히 준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808080"/>
                          </a:solidFill>
                          <a:latin typeface="가는둥근제목체"/>
                          <a:ea typeface="가는둥근제목체"/>
                        </a:rPr>
                        <a:t>조합활동 인지</a:t>
                      </a: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가는둥근제목체"/>
                          <a:ea typeface="가는둥근제목체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808080"/>
                          </a:solidFill>
                          <a:latin typeface="가는둥근제목체"/>
                          <a:ea typeface="가는둥근제목체"/>
                        </a:rPr>
                        <a:t>변칙처리 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808080"/>
                          </a:solidFill>
                          <a:latin typeface="가는둥근제목체"/>
                          <a:ea typeface="가는둥근제목체"/>
                        </a:rPr>
                        <a:t>부서 근태관리자 전원 징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사적외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무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소속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인정결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무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A033태고딕"/>
                        </a:rPr>
                        <a:t>소속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제목 2"/>
          <p:cNvSpPr/>
          <p:nvPr/>
        </p:nvSpPr>
        <p:spPr>
          <a:xfrm>
            <a:off x="108000" y="255600"/>
            <a:ext cx="7200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HY견명조"/>
                <a:ea typeface="HY견명조"/>
              </a:rPr>
              <a:t>2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. </a:t>
            </a:r>
            <a:r>
              <a:rPr b="0" lang="ko-KR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세부적용 기준 </a:t>
            </a:r>
            <a:r>
              <a:rPr b="0" lang="en-US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(</a:t>
            </a:r>
            <a:r>
              <a:rPr b="0" lang="ko-KR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기타근태</a:t>
            </a:r>
            <a:r>
              <a:rPr b="0" lang="en-US" sz="1800" spc="-1" strike="noStrike">
                <a:solidFill>
                  <a:srgbClr val="0000cc"/>
                </a:solidFill>
                <a:latin typeface="HY견고딕"/>
                <a:ea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0"/>
          <p:cNvGrpSpPr/>
          <p:nvPr/>
        </p:nvGrpSpPr>
        <p:grpSpPr>
          <a:xfrm>
            <a:off x="361800" y="4467240"/>
            <a:ext cx="8602920" cy="1800360"/>
            <a:chOff x="361800" y="4467240"/>
            <a:chExt cx="8602920" cy="1800360"/>
          </a:xfrm>
        </p:grpSpPr>
        <p:sp>
          <p:nvSpPr>
            <p:cNvPr id="106" name="Rectangle 21"/>
            <p:cNvSpPr/>
            <p:nvPr/>
          </p:nvSpPr>
          <p:spPr>
            <a:xfrm>
              <a:off x="361800" y="4467240"/>
              <a:ext cx="932040" cy="180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근로시간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면제자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1285920" y="4467240"/>
              <a:ext cx="7678800" cy="180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8" name="Group 32"/>
          <p:cNvGrpSpPr/>
          <p:nvPr/>
        </p:nvGrpSpPr>
        <p:grpSpPr>
          <a:xfrm>
            <a:off x="361800" y="6267600"/>
            <a:ext cx="8602920" cy="431640"/>
            <a:chOff x="361800" y="6267600"/>
            <a:chExt cx="8602920" cy="431640"/>
          </a:xfrm>
        </p:grpSpPr>
        <p:sp>
          <p:nvSpPr>
            <p:cNvPr id="109" name="Rectangle 33"/>
            <p:cNvSpPr/>
            <p:nvPr/>
          </p:nvSpPr>
          <p:spPr>
            <a:xfrm>
              <a:off x="361800" y="6267600"/>
              <a:ext cx="932040" cy="431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00"/>
                  </a:solidFill>
                  <a:latin typeface="굴림"/>
                </a:rPr>
                <a:t>참  고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Rectangle 34"/>
            <p:cNvSpPr/>
            <p:nvPr/>
          </p:nvSpPr>
          <p:spPr>
            <a:xfrm>
              <a:off x="1285920" y="6267600"/>
              <a:ext cx="7678800" cy="431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00"/>
                  </a:solidFill>
                  <a:latin typeface="굴림"/>
                </a:rPr>
                <a:t>노조법에 규정된 면제대상 업무 수행자</a:t>
              </a:r>
              <a:r>
                <a:rPr b="1" lang="en-US" sz="1400" spc="-1" strike="noStrike">
                  <a:solidFill>
                    <a:srgbClr val="ff0000"/>
                  </a:solidFill>
                  <a:latin typeface="굴림"/>
                </a:rPr>
                <a:t>(</a:t>
              </a:r>
              <a:r>
                <a:rPr b="1" lang="ko-KR" sz="1400" spc="-1" strike="noStrike">
                  <a:solidFill>
                    <a:srgbClr val="ff0000"/>
                  </a:solidFill>
                  <a:latin typeface="굴림"/>
                </a:rPr>
                <a:t>풀타임 </a:t>
              </a:r>
              <a:r>
                <a:rPr b="1" lang="en-US" sz="1400" spc="-1" strike="noStrike">
                  <a:solidFill>
                    <a:srgbClr val="ff0000"/>
                  </a:solidFill>
                  <a:latin typeface="굴림"/>
                </a:rPr>
                <a:t>: 19</a:t>
              </a:r>
              <a:r>
                <a:rPr b="1" lang="ko-KR" sz="1400" spc="-1" strike="noStrike">
                  <a:solidFill>
                    <a:srgbClr val="ff0000"/>
                  </a:solidFill>
                  <a:latin typeface="굴림"/>
                </a:rPr>
                <a:t>명 </a:t>
              </a:r>
              <a:r>
                <a:rPr b="1" lang="en-US" sz="1400" spc="-1" strike="noStrike">
                  <a:solidFill>
                    <a:srgbClr val="ff0000"/>
                  </a:solidFill>
                  <a:latin typeface="굴림"/>
                </a:rPr>
                <a:t>/ </a:t>
              </a:r>
              <a:r>
                <a:rPr b="1" lang="ko-KR" sz="1400" spc="-1" strike="noStrike">
                  <a:solidFill>
                    <a:srgbClr val="ff0000"/>
                  </a:solidFill>
                  <a:latin typeface="굴림"/>
                </a:rPr>
                <a:t>파트타임 </a:t>
              </a:r>
              <a:r>
                <a:rPr b="1" lang="en-US" sz="1400" spc="-1" strike="noStrike">
                  <a:solidFill>
                    <a:srgbClr val="ff0000"/>
                  </a:solidFill>
                  <a:latin typeface="굴림"/>
                </a:rPr>
                <a:t>: 38</a:t>
              </a:r>
              <a:r>
                <a:rPr b="1" lang="ko-KR" sz="1400" spc="-1" strike="noStrike">
                  <a:solidFill>
                    <a:srgbClr val="ff0000"/>
                  </a:solidFill>
                  <a:latin typeface="굴림"/>
                </a:rPr>
                <a:t>명</a:t>
              </a:r>
              <a:r>
                <a:rPr b="1" lang="en-US" sz="1400" spc="-1" strike="noStrike">
                  <a:solidFill>
                    <a:srgbClr val="ff0000"/>
                  </a:solidFill>
                  <a:latin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11" name="Group 29"/>
          <p:cNvGrpSpPr/>
          <p:nvPr/>
        </p:nvGrpSpPr>
        <p:grpSpPr>
          <a:xfrm>
            <a:off x="361800" y="3840120"/>
            <a:ext cx="8602920" cy="431640"/>
            <a:chOff x="361800" y="3840120"/>
            <a:chExt cx="8602920" cy="431640"/>
          </a:xfrm>
        </p:grpSpPr>
        <p:sp>
          <p:nvSpPr>
            <p:cNvPr id="112" name="Rectangle 30"/>
            <p:cNvSpPr/>
            <p:nvPr/>
          </p:nvSpPr>
          <p:spPr>
            <a:xfrm>
              <a:off x="361800" y="3840120"/>
              <a:ext cx="932040" cy="431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00"/>
                  </a:solidFill>
                  <a:latin typeface="굴림"/>
                </a:rPr>
                <a:t>참 고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Rectangle 31"/>
            <p:cNvSpPr/>
            <p:nvPr/>
          </p:nvSpPr>
          <p:spPr>
            <a:xfrm>
              <a:off x="1285920" y="3840120"/>
              <a:ext cx="7678800" cy="431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00"/>
                  </a:solidFill>
                  <a:latin typeface="굴림"/>
                </a:rPr>
                <a:t>노동조합 업무에만 종사하는 자</a:t>
              </a:r>
              <a:r>
                <a:rPr b="1" lang="en-US" sz="1400" spc="-1" strike="noStrike">
                  <a:solidFill>
                    <a:srgbClr val="ff0000"/>
                  </a:solidFill>
                  <a:latin typeface="굴림"/>
                </a:rPr>
                <a:t>(</a:t>
              </a:r>
              <a:r>
                <a:rPr b="1" lang="ko-KR" sz="1400" spc="-1" strike="noStrike">
                  <a:solidFill>
                    <a:srgbClr val="ff0000"/>
                  </a:solidFill>
                  <a:latin typeface="굴림"/>
                </a:rPr>
                <a:t>업무범위 및 인원수는 노사합의로 결정</a:t>
              </a:r>
              <a:r>
                <a:rPr b="1" lang="en-US" sz="1400" spc="-1" strike="noStrike">
                  <a:solidFill>
                    <a:srgbClr val="ff0000"/>
                  </a:solidFill>
                  <a:latin typeface="굴림"/>
                </a:rPr>
                <a:t>)</a:t>
              </a: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361800" y="2039760"/>
            <a:ext cx="8602920" cy="1800360"/>
            <a:chOff x="361800" y="2039760"/>
            <a:chExt cx="8602920" cy="1800360"/>
          </a:xfrm>
        </p:grpSpPr>
        <p:sp>
          <p:nvSpPr>
            <p:cNvPr id="115" name="Rectangle 15"/>
            <p:cNvSpPr/>
            <p:nvPr/>
          </p:nvSpPr>
          <p:spPr>
            <a:xfrm>
              <a:off x="361800" y="2039760"/>
              <a:ext cx="932040" cy="180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전임자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1285920" y="2039760"/>
              <a:ext cx="7678800" cy="180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7" name="제목 2"/>
          <p:cNvSpPr/>
          <p:nvPr/>
        </p:nvSpPr>
        <p:spPr>
          <a:xfrm>
            <a:off x="108000" y="255600"/>
            <a:ext cx="7200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HY견명조"/>
                <a:ea typeface="HY견명조"/>
              </a:rPr>
              <a:t>3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. </a:t>
            </a:r>
            <a:r>
              <a:rPr b="0" lang="ko-KR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근태업무 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Proces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3013200" y="1522440"/>
            <a:ext cx="1728720" cy="50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ff0000">
                  <a:alpha val="40000"/>
                </a:srgbClr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근태처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현업부서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5221440" y="1522440"/>
            <a:ext cx="1655640" cy="50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ff0000">
                  <a:alpha val="40000"/>
                </a:srgbClr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근태처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근태주관팀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7291440" y="1522440"/>
            <a:ext cx="1655640" cy="50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ff0000">
                  <a:alpha val="40000"/>
                </a:srgbClr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승인 여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670040" y="1582560"/>
            <a:ext cx="1004760" cy="37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0000">
                  <a:alpha val="50196"/>
                </a:srgbClr>
              </a:gs>
              <a:gs pos="100000">
                <a:srgbClr val="ffffff"/>
              </a:gs>
            </a:gsLst>
            <a:lin ang="18900000"/>
          </a:gra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  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670040" y="2111400"/>
            <a:ext cx="1004760" cy="165744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사발령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노동조합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74760" y="1582560"/>
            <a:ext cx="931680" cy="37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0000">
                  <a:alpha val="50196"/>
                </a:srgbClr>
              </a:gs>
              <a:gs pos="100000">
                <a:srgbClr val="ffffff"/>
              </a:gs>
            </a:gsLst>
            <a:lin ang="18900000"/>
          </a:gra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대  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7567560" y="2759040"/>
            <a:ext cx="1150920" cy="360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인정</a:t>
            </a:r>
            <a:r>
              <a:rPr b="1" lang="en-US" sz="14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무급</a:t>
            </a:r>
            <a:r>
              <a:rPr b="1" lang="en-US" sz="1400" spc="-1" strike="noStrike">
                <a:solidFill>
                  <a:srgbClr val="0000ff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5257800" y="2111400"/>
            <a:ext cx="1584360" cy="165744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5381640" y="2759040"/>
            <a:ext cx="1341360" cy="360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전임휴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7" name="AutoShape 12"/>
          <p:cNvCxnSpPr>
            <a:stCxn id="126" idx="0"/>
            <a:endCxn id="124" idx="0"/>
          </p:cNvCxnSpPr>
          <p:nvPr/>
        </p:nvCxnSpPr>
        <p:spPr>
          <a:xfrm>
            <a:off x="6723000" y="2939760"/>
            <a:ext cx="88992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13"/>
          <p:cNvSpPr/>
          <p:nvPr/>
        </p:nvSpPr>
        <p:spPr>
          <a:xfrm>
            <a:off x="7318440" y="2184480"/>
            <a:ext cx="1584360" cy="143964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1670040" y="4538520"/>
            <a:ext cx="1004760" cy="7938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사발령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노동조합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5257800" y="4538520"/>
            <a:ext cx="1584360" cy="165744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7318440" y="4611600"/>
            <a:ext cx="1584360" cy="14400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1670040" y="5403960"/>
            <a:ext cx="1004760" cy="7938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노무주관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조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AutoShape 24"/>
          <p:cNvSpPr/>
          <p:nvPr/>
        </p:nvSpPr>
        <p:spPr>
          <a:xfrm>
            <a:off x="5391000" y="4683240"/>
            <a:ext cx="1341720" cy="5047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근면기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풀타임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AutoShape 25"/>
          <p:cNvSpPr/>
          <p:nvPr/>
        </p:nvSpPr>
        <p:spPr>
          <a:xfrm>
            <a:off x="5391000" y="5475240"/>
            <a:ext cx="1341720" cy="5047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근면종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파트타임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AutoShape 26"/>
          <p:cNvSpPr/>
          <p:nvPr/>
        </p:nvSpPr>
        <p:spPr>
          <a:xfrm>
            <a:off x="7567560" y="5141880"/>
            <a:ext cx="1150920" cy="3589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인정</a:t>
            </a:r>
            <a:r>
              <a:rPr b="1" lang="en-US" sz="14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유급</a:t>
            </a:r>
            <a:r>
              <a:rPr b="1" lang="en-US" sz="1400" spc="-1" strike="noStrike">
                <a:solidFill>
                  <a:srgbClr val="0000ff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36" name="AutoShape 27"/>
          <p:cNvCxnSpPr>
            <a:stCxn id="133" idx="0"/>
            <a:endCxn id="135" idx="0"/>
          </p:cNvCxnSpPr>
          <p:nvPr/>
        </p:nvCxnSpPr>
        <p:spPr>
          <a:xfrm>
            <a:off x="6669000" y="4935240"/>
            <a:ext cx="943920" cy="386280"/>
          </a:xfrm>
          <a:prstGeom prst="bentConnector3">
            <a:avLst>
              <a:gd name="adj1" fmla="val 50972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AutoShape 28"/>
          <p:cNvCxnSpPr>
            <a:stCxn id="134" idx="0"/>
            <a:endCxn id="135" idx="1"/>
          </p:cNvCxnSpPr>
          <p:nvPr/>
        </p:nvCxnSpPr>
        <p:spPr>
          <a:xfrm flipV="1">
            <a:off x="6669000" y="5320440"/>
            <a:ext cx="943920" cy="407160"/>
          </a:xfrm>
          <a:prstGeom prst="bentConnector3">
            <a:avLst>
              <a:gd name="adj1" fmla="val 50972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Text Box 160"/>
          <p:cNvSpPr/>
          <p:nvPr/>
        </p:nvSpPr>
        <p:spPr>
          <a:xfrm>
            <a:off x="250920" y="1252440"/>
            <a:ext cx="56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Y헤드라인M"/>
              </a:rPr>
              <a:t>1.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HY헤드라인M"/>
              </a:rPr>
              <a:t>전임자 및 풀타임 근로시간면제자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HY헤드라인M"/>
              </a:rPr>
              <a:t>협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Y헤드라인M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HY헤드라인M"/>
              </a:rPr>
              <a:t>승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Y헤드라인M"/>
              </a:rPr>
              <a:t>)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HY헤드라인M"/>
              </a:rPr>
              <a:t>조합활동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88"/>
          <p:cNvGrpSpPr/>
          <p:nvPr/>
        </p:nvGrpSpPr>
        <p:grpSpPr>
          <a:xfrm>
            <a:off x="361800" y="3827520"/>
            <a:ext cx="8602920" cy="2914560"/>
            <a:chOff x="361800" y="3827520"/>
            <a:chExt cx="8602920" cy="2914560"/>
          </a:xfrm>
        </p:grpSpPr>
        <p:sp>
          <p:nvSpPr>
            <p:cNvPr id="140" name="Rectangle 89"/>
            <p:cNvSpPr/>
            <p:nvPr/>
          </p:nvSpPr>
          <p:spPr>
            <a:xfrm>
              <a:off x="361800" y="3827520"/>
              <a:ext cx="932040" cy="291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사전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미합의 자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Rectangle 90"/>
            <p:cNvSpPr/>
            <p:nvPr/>
          </p:nvSpPr>
          <p:spPr>
            <a:xfrm>
              <a:off x="1281240" y="3827520"/>
              <a:ext cx="7683480" cy="291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42" name="Group 85"/>
          <p:cNvGrpSpPr/>
          <p:nvPr/>
        </p:nvGrpSpPr>
        <p:grpSpPr>
          <a:xfrm>
            <a:off x="361800" y="1976400"/>
            <a:ext cx="8602920" cy="1800360"/>
            <a:chOff x="361800" y="1976400"/>
            <a:chExt cx="8602920" cy="1800360"/>
          </a:xfrm>
        </p:grpSpPr>
        <p:sp>
          <p:nvSpPr>
            <p:cNvPr id="143" name="Rectangle 86"/>
            <p:cNvSpPr/>
            <p:nvPr/>
          </p:nvSpPr>
          <p:spPr>
            <a:xfrm>
              <a:off x="361800" y="1976400"/>
              <a:ext cx="932040" cy="180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사전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합의자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Rectangle 87"/>
            <p:cNvSpPr/>
            <p:nvPr/>
          </p:nvSpPr>
          <p:spPr>
            <a:xfrm>
              <a:off x="1285920" y="1976400"/>
              <a:ext cx="7678800" cy="180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5" name="제목 2"/>
          <p:cNvSpPr/>
          <p:nvPr/>
        </p:nvSpPr>
        <p:spPr>
          <a:xfrm>
            <a:off x="108000" y="255600"/>
            <a:ext cx="7200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HY견명조"/>
                <a:ea typeface="HY견명조"/>
              </a:rPr>
              <a:t>3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. </a:t>
            </a:r>
            <a:r>
              <a:rPr b="0" lang="ko-KR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근태업무 </a:t>
            </a:r>
            <a:r>
              <a:rPr b="0" lang="en-US" sz="2600" spc="-1" strike="noStrike">
                <a:solidFill>
                  <a:srgbClr val="0000cc"/>
                </a:solidFill>
                <a:latin typeface="HY견고딕"/>
                <a:ea typeface="HY견고딕"/>
              </a:rPr>
              <a:t>Proces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6" name="AutoShape 49"/>
          <p:cNvCxnSpPr>
            <a:stCxn id="147" idx="0"/>
            <a:endCxn id="148" idx="0"/>
          </p:cNvCxnSpPr>
          <p:nvPr/>
        </p:nvCxnSpPr>
        <p:spPr>
          <a:xfrm>
            <a:off x="6643440" y="4116240"/>
            <a:ext cx="983160" cy="504000"/>
          </a:xfrm>
          <a:prstGeom prst="bentConnector3">
            <a:avLst>
              <a:gd name="adj1" fmla="val 498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AutoShape 50"/>
          <p:cNvCxnSpPr>
            <a:stCxn id="150" idx="0"/>
            <a:endCxn id="148" idx="1"/>
          </p:cNvCxnSpPr>
          <p:nvPr/>
        </p:nvCxnSpPr>
        <p:spPr>
          <a:xfrm flipV="1">
            <a:off x="6688080" y="4618800"/>
            <a:ext cx="938880" cy="2520"/>
          </a:xfrm>
          <a:prstGeom prst="bentConnector3">
            <a:avLst>
              <a:gd name="adj1" fmla="val 47525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1"/>
          <p:cNvCxnSpPr>
            <a:stCxn id="152" idx="0"/>
            <a:endCxn id="148" idx="2"/>
          </p:cNvCxnSpPr>
          <p:nvPr/>
        </p:nvCxnSpPr>
        <p:spPr>
          <a:xfrm flipV="1">
            <a:off x="6687720" y="4619160"/>
            <a:ext cx="894600" cy="527760"/>
          </a:xfrm>
          <a:prstGeom prst="bentConnector3">
            <a:avLst>
              <a:gd name="adj1" fmla="val 4987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2"/>
          <p:cNvCxnSpPr>
            <a:stCxn id="154" idx="0"/>
            <a:endCxn id="155" idx="0"/>
          </p:cNvCxnSpPr>
          <p:nvPr/>
        </p:nvCxnSpPr>
        <p:spPr>
          <a:xfrm>
            <a:off x="4506480" y="5810040"/>
            <a:ext cx="3120120" cy="262080"/>
          </a:xfrm>
          <a:prstGeom prst="bentConnector3">
            <a:avLst>
              <a:gd name="adj1" fmla="val 49261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6" name="AutoShape 53"/>
          <p:cNvCxnSpPr>
            <a:stCxn id="157" idx="0"/>
            <a:endCxn id="155" idx="1"/>
          </p:cNvCxnSpPr>
          <p:nvPr/>
        </p:nvCxnSpPr>
        <p:spPr>
          <a:xfrm flipV="1">
            <a:off x="4506840" y="6071400"/>
            <a:ext cx="3075840" cy="315000"/>
          </a:xfrm>
          <a:prstGeom prst="bentConnector3">
            <a:avLst>
              <a:gd name="adj1" fmla="val 49970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8" name="Rectangle 54"/>
          <p:cNvSpPr/>
          <p:nvPr/>
        </p:nvSpPr>
        <p:spPr>
          <a:xfrm>
            <a:off x="3056040" y="3902040"/>
            <a:ext cx="1584360" cy="1398600"/>
          </a:xfrm>
          <a:prstGeom prst="rect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7324560" y="3873600"/>
            <a:ext cx="1584360" cy="27954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AutoShape 56"/>
          <p:cNvSpPr/>
          <p:nvPr/>
        </p:nvSpPr>
        <p:spPr>
          <a:xfrm>
            <a:off x="3013200" y="1484280"/>
            <a:ext cx="1728720" cy="50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ff0000">
                  <a:alpha val="40000"/>
                </a:srgbClr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근태처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현업부서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AutoShape 57"/>
          <p:cNvSpPr/>
          <p:nvPr/>
        </p:nvSpPr>
        <p:spPr>
          <a:xfrm>
            <a:off x="5221440" y="1484280"/>
            <a:ext cx="1655640" cy="50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ff0000">
                  <a:alpha val="40000"/>
                </a:srgbClr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근태처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근태주관팀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58"/>
          <p:cNvSpPr/>
          <p:nvPr/>
        </p:nvSpPr>
        <p:spPr>
          <a:xfrm>
            <a:off x="7291440" y="1484280"/>
            <a:ext cx="1655640" cy="50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ff0000">
                  <a:alpha val="40000"/>
                </a:srgbClr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승인 여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AutoShape 59"/>
          <p:cNvSpPr/>
          <p:nvPr/>
        </p:nvSpPr>
        <p:spPr>
          <a:xfrm>
            <a:off x="3182760" y="4097160"/>
            <a:ext cx="1341720" cy="360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미결종일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60"/>
          <p:cNvSpPr/>
          <p:nvPr/>
        </p:nvSpPr>
        <p:spPr>
          <a:xfrm>
            <a:off x="3182760" y="4732200"/>
            <a:ext cx="1341720" cy="360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미결부분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시간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AutoShape 61"/>
          <p:cNvSpPr/>
          <p:nvPr/>
        </p:nvSpPr>
        <p:spPr>
          <a:xfrm>
            <a:off x="5392800" y="3935520"/>
            <a:ext cx="1295280" cy="3603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조합활동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AutoShape 62"/>
          <p:cNvSpPr/>
          <p:nvPr/>
        </p:nvSpPr>
        <p:spPr>
          <a:xfrm>
            <a:off x="5392800" y="4440240"/>
            <a:ext cx="1295280" cy="360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조합무급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시간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63"/>
          <p:cNvSpPr/>
          <p:nvPr/>
        </p:nvSpPr>
        <p:spPr>
          <a:xfrm>
            <a:off x="3211560" y="6205680"/>
            <a:ext cx="1295280" cy="36036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무단결근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4"/>
          <p:cNvSpPr/>
          <p:nvPr/>
        </p:nvSpPr>
        <p:spPr>
          <a:xfrm>
            <a:off x="5392800" y="4965840"/>
            <a:ext cx="1295280" cy="36036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회의무급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시간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65"/>
          <p:cNvSpPr/>
          <p:nvPr/>
        </p:nvSpPr>
        <p:spPr>
          <a:xfrm>
            <a:off x="3211560" y="5629320"/>
            <a:ext cx="1295280" cy="36036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무단이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66"/>
          <p:cNvSpPr/>
          <p:nvPr/>
        </p:nvSpPr>
        <p:spPr>
          <a:xfrm>
            <a:off x="7581960" y="4438800"/>
            <a:ext cx="1150920" cy="36036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인정</a:t>
            </a:r>
            <a:r>
              <a:rPr b="1" lang="en-US" sz="14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무급</a:t>
            </a:r>
            <a:r>
              <a:rPr b="1" lang="en-US" sz="1400" spc="-1" strike="noStrike">
                <a:solidFill>
                  <a:srgbClr val="0000ff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67"/>
          <p:cNvSpPr/>
          <p:nvPr/>
        </p:nvSpPr>
        <p:spPr>
          <a:xfrm>
            <a:off x="7581960" y="5891040"/>
            <a:ext cx="1150920" cy="36036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불인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AutoShape 68"/>
          <p:cNvCxnSpPr>
            <a:stCxn id="163" idx="0"/>
            <a:endCxn id="147" idx="1"/>
          </p:cNvCxnSpPr>
          <p:nvPr/>
        </p:nvCxnSpPr>
        <p:spPr>
          <a:xfrm flipV="1">
            <a:off x="4524480" y="4115880"/>
            <a:ext cx="869040" cy="162720"/>
          </a:xfrm>
          <a:prstGeom prst="bentConnector3">
            <a:avLst>
              <a:gd name="adj1" fmla="val 49896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AutoShape 69"/>
          <p:cNvCxnSpPr>
            <a:stCxn id="164" idx="0"/>
            <a:endCxn id="150" idx="1"/>
          </p:cNvCxnSpPr>
          <p:nvPr/>
        </p:nvCxnSpPr>
        <p:spPr>
          <a:xfrm flipV="1">
            <a:off x="4524480" y="4620600"/>
            <a:ext cx="869040" cy="292680"/>
          </a:xfrm>
          <a:prstGeom prst="bentConnector3">
            <a:avLst>
              <a:gd name="adj1" fmla="val 49896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70"/>
          <p:cNvCxnSpPr>
            <a:stCxn id="164" idx="1"/>
            <a:endCxn id="152" idx="1"/>
          </p:cNvCxnSpPr>
          <p:nvPr/>
        </p:nvCxnSpPr>
        <p:spPr>
          <a:xfrm>
            <a:off x="4479840" y="4913280"/>
            <a:ext cx="913680" cy="234000"/>
          </a:xfrm>
          <a:prstGeom prst="bentConnector3">
            <a:avLst>
              <a:gd name="adj1" fmla="val 52345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Rectangle 71"/>
          <p:cNvSpPr/>
          <p:nvPr/>
        </p:nvSpPr>
        <p:spPr>
          <a:xfrm>
            <a:off x="1670040" y="1544760"/>
            <a:ext cx="1004760" cy="37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0000">
                  <a:alpha val="50196"/>
                </a:srgbClr>
              </a:gs>
              <a:gs pos="100000">
                <a:srgbClr val="ffffff"/>
              </a:gs>
            </a:gsLst>
            <a:lin ang="18900000"/>
          </a:gra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  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Rectangle 72"/>
          <p:cNvSpPr/>
          <p:nvPr/>
        </p:nvSpPr>
        <p:spPr>
          <a:xfrm>
            <a:off x="1670040" y="3890880"/>
            <a:ext cx="1004760" cy="1513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조합활동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신청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제출 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Rectangle 73"/>
          <p:cNvSpPr/>
          <p:nvPr/>
        </p:nvSpPr>
        <p:spPr>
          <a:xfrm>
            <a:off x="1670040" y="5518080"/>
            <a:ext cx="1004760" cy="11509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조합활동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신청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미제출 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Rectangle 74"/>
          <p:cNvSpPr/>
          <p:nvPr/>
        </p:nvSpPr>
        <p:spPr>
          <a:xfrm>
            <a:off x="1670040" y="2048040"/>
            <a:ext cx="1004760" cy="1657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노무주관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협조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Rectangle 75"/>
          <p:cNvSpPr/>
          <p:nvPr/>
        </p:nvSpPr>
        <p:spPr>
          <a:xfrm>
            <a:off x="374760" y="1544760"/>
            <a:ext cx="931680" cy="37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0000">
                  <a:alpha val="50196"/>
                </a:srgbClr>
              </a:gs>
              <a:gs pos="100000">
                <a:srgbClr val="ffffff"/>
              </a:gs>
            </a:gsLst>
            <a:lin ang="18900000"/>
          </a:gra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대  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AutoShape 76"/>
          <p:cNvSpPr/>
          <p:nvPr/>
        </p:nvSpPr>
        <p:spPr>
          <a:xfrm>
            <a:off x="7567560" y="2695680"/>
            <a:ext cx="1150920" cy="36036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인정</a:t>
            </a:r>
            <a:r>
              <a:rPr b="1" lang="en-US" sz="14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무급</a:t>
            </a:r>
            <a:r>
              <a:rPr b="1" lang="en-US" sz="1400" spc="-1" strike="noStrike">
                <a:solidFill>
                  <a:srgbClr val="0000ff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Rectangle 77"/>
          <p:cNvSpPr/>
          <p:nvPr/>
        </p:nvSpPr>
        <p:spPr>
          <a:xfrm>
            <a:off x="5257800" y="2048040"/>
            <a:ext cx="1584360" cy="1657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AutoShape 78"/>
          <p:cNvSpPr/>
          <p:nvPr/>
        </p:nvSpPr>
        <p:spPr>
          <a:xfrm>
            <a:off x="5381640" y="2158920"/>
            <a:ext cx="1341360" cy="36036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조합활동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AutoShape 79"/>
          <p:cNvSpPr/>
          <p:nvPr/>
        </p:nvSpPr>
        <p:spPr>
          <a:xfrm>
            <a:off x="5386320" y="2700360"/>
            <a:ext cx="1341360" cy="36036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조합무급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시간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AutoShape 80"/>
          <p:cNvSpPr/>
          <p:nvPr/>
        </p:nvSpPr>
        <p:spPr>
          <a:xfrm>
            <a:off x="5381640" y="3259080"/>
            <a:ext cx="1341360" cy="36036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회의무급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시간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8" name="AutoShape 81"/>
          <p:cNvCxnSpPr>
            <a:stCxn id="175" idx="0"/>
            <a:endCxn id="173" idx="0"/>
          </p:cNvCxnSpPr>
          <p:nvPr/>
        </p:nvCxnSpPr>
        <p:spPr>
          <a:xfrm>
            <a:off x="6723000" y="2340000"/>
            <a:ext cx="889920" cy="536760"/>
          </a:xfrm>
          <a:prstGeom prst="bentConnector3">
            <a:avLst>
              <a:gd name="adj1" fmla="val 4747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82"/>
          <p:cNvCxnSpPr>
            <a:stCxn id="176" idx="0"/>
            <a:endCxn id="173" idx="1"/>
          </p:cNvCxnSpPr>
          <p:nvPr/>
        </p:nvCxnSpPr>
        <p:spPr>
          <a:xfrm flipV="1">
            <a:off x="6727320" y="2876040"/>
            <a:ext cx="840600" cy="5760"/>
          </a:xfrm>
          <a:prstGeom prst="bentConnector3">
            <a:avLst>
              <a:gd name="adj1" fmla="val 49871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AutoShape 83"/>
          <p:cNvCxnSpPr>
            <a:stCxn id="177" idx="0"/>
            <a:endCxn id="173" idx="2"/>
          </p:cNvCxnSpPr>
          <p:nvPr/>
        </p:nvCxnSpPr>
        <p:spPr>
          <a:xfrm flipV="1">
            <a:off x="6723000" y="2876040"/>
            <a:ext cx="845280" cy="564480"/>
          </a:xfrm>
          <a:prstGeom prst="bentConnector3">
            <a:avLst>
              <a:gd name="adj1" fmla="val 49978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84"/>
          <p:cNvSpPr/>
          <p:nvPr/>
        </p:nvSpPr>
        <p:spPr>
          <a:xfrm>
            <a:off x="7318440" y="2120760"/>
            <a:ext cx="1584360" cy="14400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Rectangle 91"/>
          <p:cNvSpPr/>
          <p:nvPr/>
        </p:nvSpPr>
        <p:spPr>
          <a:xfrm>
            <a:off x="5246640" y="3890880"/>
            <a:ext cx="1584360" cy="1513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Rectangle 92"/>
          <p:cNvSpPr/>
          <p:nvPr/>
        </p:nvSpPr>
        <p:spPr>
          <a:xfrm>
            <a:off x="3051000" y="5513400"/>
            <a:ext cx="1584360" cy="115236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Text Box 40"/>
          <p:cNvSpPr/>
          <p:nvPr/>
        </p:nvSpPr>
        <p:spPr>
          <a:xfrm>
            <a:off x="219240" y="125244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Y헤드라인M"/>
              </a:rPr>
              <a:t>2.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HY헤드라인M"/>
              </a:rPr>
              <a:t>일반 조합원 조합활동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22:38:26Z</dcterms:created>
  <dc:creator>kia</dc:creator>
  <dc:description/>
  <dc:language>en-US</dc:language>
  <cp:lastModifiedBy>^^</cp:lastModifiedBy>
  <dcterms:modified xsi:type="dcterms:W3CDTF">2010-07-01T00:35:31Z</dcterms:modified>
  <cp:revision>149</cp:revision>
  <dc:subject/>
  <dc:title>슬라이드 1</dc:title>
</cp:coreProperties>
</file>